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png" ContentType="image/png"/>
  <Override PartName="/ppt/media/image7.png" ContentType="image/png"/>
  <Override PartName="/ppt/media/image3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4.png" ContentType="image/png"/>
  <Override PartName="/ppt/media/image12.jpeg" ContentType="image/jpeg"/>
  <Override PartName="/ppt/media/image13.png" ContentType="image/png"/>
  <Override PartName="/ppt/media/image11.png" ContentType="image/png"/>
  <Override PartName="/ppt/media/image8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14.png" ContentType="image/png"/>
  <Override PartName="/ppt/media/image15.png" ContentType="image/png"/>
  <Override PartName="/ppt/media/image22.png" ContentType="image/png"/>
  <Override PartName="/ppt/media/image24.jpeg" ContentType="image/jpe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766E-A7E3-4D12-BDA0-8D0E9F80F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DB0B-7D9D-4B89-80EB-B1A338E8C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AD46-1E0B-4851-8457-2EFB9BB32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92E8-2FBB-476D-AFE5-45C0A06F1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A6B4B-CA76-4542-9840-2986D7A15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52430-E493-4362-BA7D-5A23BF0D3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F76DB-8FF9-4386-90A6-E5E770B45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BFDFC-F006-4A9A-AF58-553007CBC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EFA6B-7468-439D-9BCB-9DE3725C1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4FC92-CF98-41C9-8C08-207244312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CB915-CE11-4E56-9EF9-02BB06F3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AFF0-392E-4A62-B968-9CCA2D12F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34FA4-64AA-4CE2-9A72-EC73BB32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9A53B-26A2-49D4-8CB8-EFBA821F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56F13-3C6F-4537-8BDE-7629C4B91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C55DD-5833-46F7-8679-3836B1F98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F4E76-B59E-48F4-A964-B934CFBBE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59205-F3F7-48F3-B98F-A93A704F6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B7249-034D-43F0-9D19-D0AD8D6BA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6E4E5-B6A3-48DA-BB7D-752A07AC7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CDC22-7C69-4F96-B00F-37F908027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5CBA4-D2FE-473E-8B27-DF96CAEC0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6B8A-25B8-49E4-8E72-7773C7DC2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0E485-D694-4B49-9250-4D7137BE0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E74C8-B02B-47BD-AAA1-FF997AA3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121B6-1002-49D8-BB07-2B3D3EFF9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E2A05-4CAB-4426-8CF8-E1ED8AF71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8B9D9-C7E0-4B53-AA8B-478646D0E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092B0-7BE8-4222-8DD6-62396515C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21164-30D1-4A17-8BCB-A149A2AD8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8BBD4-44E3-4BDF-822D-4E5ECE900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1A6B2-6CAA-48D8-8825-360486EFC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91814-77A9-462A-B577-9B04D329B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C3B8-1A24-421C-8950-3F958D7E9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D1770-8ABF-400E-AC8D-0DC5997FF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56A4D-6E22-4720-9C1E-AA6A905F5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E3995-28CB-4C3A-8DEF-CA00CF09C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A4433-CEC5-446D-BC30-F0B8B6C70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41150-5AEF-4CE1-B50A-09DF45AF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8AA73-F602-4040-8789-8049798B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D5C41-AD45-49D8-9648-C0B981325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FAE02-1F27-4C57-97A9-78007CD70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97A88-D9A4-486B-8E12-27C0C861A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11E9-74CB-47CF-8A7D-9CC22D0D4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6408-2B59-4229-A49B-FF5B10F6A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8831-F4B4-4257-B333-188118C8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75AD-524D-4BDB-B9D7-066AAB438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9840-B07C-4FAA-8300-3ACF3FEC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66F54-86DA-4F7E-B344-89A4889C23A8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796F7-E223-4329-8F34-463A5635037C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D23F9-331D-4221-8C23-267878DE2CD6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C956E-4F97-48D4-A4AE-3BEB1570C242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13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6.pn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3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Заголовок 3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1189080"/>
          </a:xfrm>
          <a:prstGeom prst="rect">
            <a:avLst/>
          </a:prstGeom>
          <a:ln w="0">
            <a:noFill/>
          </a:ln>
        </p:spPr>
      </p:pic>
      <p:grpSp>
        <p:nvGrpSpPr>
          <p:cNvPr id="215" name="Объект 4"/>
          <p:cNvGrpSpPr/>
          <p:nvPr/>
        </p:nvGrpSpPr>
        <p:grpSpPr>
          <a:xfrm>
            <a:off x="-133200" y="981000"/>
            <a:ext cx="9410400" cy="6005520"/>
            <a:chOff x="-133200" y="981000"/>
            <a:chExt cx="9410400" cy="6005520"/>
          </a:xfrm>
        </p:grpSpPr>
        <p:pic>
          <p:nvPicPr>
            <p:cNvPr id="216" name="Объект 4" descr=""/>
            <p:cNvPicPr/>
            <p:nvPr/>
          </p:nvPicPr>
          <p:blipFill>
            <a:blip r:embed="rId2"/>
            <a:stretch/>
          </p:blipFill>
          <p:spPr>
            <a:xfrm>
              <a:off x="-133200" y="981000"/>
              <a:ext cx="9410400" cy="600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108000" y="1224000"/>
              <a:ext cx="8928000" cy="55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182520" algn="ctr">
                <a:spcBef>
                  <a:spcPts val="550"/>
                </a:spcBef>
                <a:spcAft>
                  <a:spcPts val="300"/>
                </a:spcAft>
                <a:buClr>
                  <a:srgbClr val="c3260c"/>
                </a:buClr>
                <a:buSzPct val="130000"/>
                <a:buFont typeface="Georgia"/>
                <a:buChar char="*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28600" indent="-182520" algn="ctr">
                <a:lnSpc>
                  <a:spcPct val="100000"/>
                </a:lnSpc>
                <a:spcBef>
                  <a:spcPts val="45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28600" indent="-182520" algn="ctr">
                <a:lnSpc>
                  <a:spcPct val="100000"/>
                </a:lnSpc>
                <a:spcBef>
                  <a:spcPts val="799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404040"/>
                  </a:solidFill>
                  <a:latin typeface="Times New Roman"/>
                  <a:ea typeface="Times New Roman"/>
                </a:rPr>
                <a:t>Муниципальная программа</a:t>
              </a:r>
              <a:endParaRPr b="0" lang="en-US" sz="32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28600" indent="-182520" algn="ctr">
                <a:lnSpc>
                  <a:spcPct val="100000"/>
                </a:lnSpc>
                <a:spcBef>
                  <a:spcPts val="799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404040"/>
                  </a:solidFill>
                  <a:latin typeface="Times New Roman"/>
                  <a:ea typeface="Times New Roman"/>
                </a:rPr>
                <a:t>Нефтеюганского района </a:t>
              </a:r>
              <a:endParaRPr b="0" lang="en-US" sz="32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28600" indent="-182520" algn="ctr">
                <a:lnSpc>
                  <a:spcPct val="100000"/>
                </a:lnSpc>
                <a:spcBef>
                  <a:spcPts val="799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404040"/>
                  </a:solidFill>
                  <a:latin typeface="Times New Roman"/>
                  <a:ea typeface="Times New Roman"/>
                </a:rPr>
                <a:t>«</a:t>
              </a:r>
              <a:r>
                <a:rPr b="1" lang="ru-RU" sz="3200" spc="-1" strike="noStrike">
                  <a:solidFill>
                    <a:srgbClr val="404040"/>
                  </a:solidFill>
                  <a:latin typeface="Times New Roman"/>
                  <a:ea typeface="Times New Roman"/>
                </a:rPr>
                <a:t>Обеспечение прав и законных интересов населения Нефтеюганского района в отдельных сферах жизнедеятельности в 2019-2024 годах и на период до 2030 года</a:t>
              </a:r>
              <a:r>
                <a:rPr b="1" lang="ru-RU" sz="3200" spc="-1" strike="noStrike">
                  <a:solidFill>
                    <a:srgbClr val="404040"/>
                  </a:solidFill>
                  <a:latin typeface="Times New Roman"/>
                  <a:ea typeface="Times New Roman"/>
                </a:rPr>
                <a:t>»</a:t>
              </a:r>
              <a:endParaRPr b="0" lang="en-US" sz="32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28600" indent="-182520">
                <a:lnSpc>
                  <a:spcPct val="100000"/>
                </a:lnSpc>
                <a:spcBef>
                  <a:spcPts val="799"/>
                </a:spcBef>
                <a:spcAft>
                  <a:spcPts val="300"/>
                </a:spcAft>
                <a:buClr>
                  <a:srgbClr val="c3260c"/>
                </a:buClr>
                <a:buSzPct val="130000"/>
                <a:buFont typeface="Georgia"/>
                <a:buChar char="*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pic>
        <p:nvPicPr>
          <p:cNvPr id="218" name="Picture 3" descr="E:\мультики\герб мвд.jpg"/>
          <p:cNvPicPr/>
          <p:nvPr/>
        </p:nvPicPr>
        <p:blipFill>
          <a:blip r:embed="rId3"/>
          <a:stretch/>
        </p:blipFill>
        <p:spPr>
          <a:xfrm>
            <a:off x="7831080" y="0"/>
            <a:ext cx="1312920" cy="10206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C:\Users\VShishkanov.ADMOIL\Downloads\герб.gif"/>
          <p:cNvPicPr/>
          <p:nvPr/>
        </p:nvPicPr>
        <p:blipFill>
          <a:blip r:embed="rId4"/>
          <a:stretch/>
        </p:blipFill>
        <p:spPr>
          <a:xfrm>
            <a:off x="6480" y="0"/>
            <a:ext cx="87624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Заголовок 3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11700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6" descr="C:\Users\VShishkanov.ADMOIL\Downloads\герб.gif"/>
          <p:cNvPicPr/>
          <p:nvPr/>
        </p:nvPicPr>
        <p:blipFill>
          <a:blip r:embed="rId2"/>
          <a:stretch/>
        </p:blipFill>
        <p:spPr>
          <a:xfrm>
            <a:off x="6480" y="0"/>
            <a:ext cx="876240" cy="11253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3" descr="E:\мультики\герб мвд.jpg"/>
          <p:cNvPicPr/>
          <p:nvPr/>
        </p:nvPicPr>
        <p:blipFill>
          <a:blip r:embed="rId3"/>
          <a:stretch/>
        </p:blipFill>
        <p:spPr>
          <a:xfrm>
            <a:off x="7831080" y="0"/>
            <a:ext cx="1312920" cy="1020600"/>
          </a:xfrm>
          <a:prstGeom prst="rect">
            <a:avLst/>
          </a:prstGeom>
          <a:ln w="0">
            <a:noFill/>
          </a:ln>
        </p:spPr>
      </p:pic>
      <p:sp>
        <p:nvSpPr>
          <p:cNvPr id="283" name="Прямоугольник 1"/>
          <p:cNvSpPr/>
          <p:nvPr/>
        </p:nvSpPr>
        <p:spPr>
          <a:xfrm>
            <a:off x="108000" y="1700280"/>
            <a:ext cx="896472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  <a:ea typeface="Arial"/>
              </a:rPr>
              <a:t>             </a:t>
            </a: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лагодаря активному участию граждан в охране общественного порядка и общественной безопасности стабильно сокращается преступность на улицах (-23,4%) и в общественных местах     (-11,9%). Улучшена криминогенная ситуация в жилом секторе (-2,1%), на уровне прошлого года совершено преступлений лицами в состоянии алкогольного опьянения (85), иностранцами (-80%), ранее судимыми (-31,4%)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Доля уличных преступлений в числе зарегистрированных общеуголовных преступлений» - запланировано 19,6%, выполнено 6,7%. (АППГ – 7,5%)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 результатам в 2021 году отмечено снижение совершенных преступлений (-0,6%, с 629 до 625)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Снижение уровня преступности (число зарегистрированных преступлений на 100 тыс. человек населения) - запланировано 1465ед., выполнено1389 ед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а 2021 год членами народной дружины городского и сельских поселений Нефтеюганского района проведено 530 выходов на профилактические рейды и охрану общественного порядка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а 2021 год выявлено административных правонарушений – 178 (АППГ- 245)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Доля административных правонарушений, посягающих на общественный порядок и общественную безопасность, выявленных с участием народных дружинников (глава 20 КоАП РФ), в общем количестве таких правонарушений – запланировано 2,8%, выполнено 6,6%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3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11890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" descr="E:\мультики\герб мвд.jpg"/>
          <p:cNvPicPr/>
          <p:nvPr/>
        </p:nvPicPr>
        <p:blipFill>
          <a:blip r:embed="rId2"/>
          <a:stretch/>
        </p:blipFill>
        <p:spPr>
          <a:xfrm>
            <a:off x="7831080" y="0"/>
            <a:ext cx="1312920" cy="10206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C:\Users\VShishkanov.ADMOIL\Downloads\герб.gif"/>
          <p:cNvPicPr/>
          <p:nvPr/>
        </p:nvPicPr>
        <p:blipFill>
          <a:blip r:embed="rId3"/>
          <a:stretch/>
        </p:blipFill>
        <p:spPr>
          <a:xfrm>
            <a:off x="6480" y="0"/>
            <a:ext cx="876240" cy="11253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9" descr="252"/>
          <p:cNvPicPr/>
          <p:nvPr/>
        </p:nvPicPr>
        <p:blipFill>
          <a:blip r:embed="rId4"/>
          <a:stretch/>
        </p:blipFill>
        <p:spPr>
          <a:xfrm>
            <a:off x="7643880" y="1071720"/>
            <a:ext cx="1295280" cy="12841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"/>
          <p:cNvPicPr/>
          <p:nvPr/>
        </p:nvPicPr>
        <p:blipFill>
          <a:blip r:embed="rId5"/>
          <a:stretch/>
        </p:blipFill>
        <p:spPr>
          <a:xfrm>
            <a:off x="142920" y="1428840"/>
            <a:ext cx="3143160" cy="5143320"/>
          </a:xfrm>
          <a:prstGeom prst="rect">
            <a:avLst/>
          </a:prstGeom>
          <a:ln w="0">
            <a:noFill/>
          </a:ln>
        </p:spPr>
      </p:pic>
      <p:sp>
        <p:nvSpPr>
          <p:cNvPr id="225" name="TextBox 8"/>
          <p:cNvSpPr/>
          <p:nvPr/>
        </p:nvSpPr>
        <p:spPr>
          <a:xfrm>
            <a:off x="3357720" y="1428840"/>
            <a:ext cx="428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ата утверждения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униципальной программы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TextBox 9"/>
          <p:cNvSpPr/>
          <p:nvPr/>
        </p:nvSpPr>
        <p:spPr>
          <a:xfrm>
            <a:off x="3286080" y="2571840"/>
            <a:ext cx="585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ление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ции Нефтеюганского района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01.11.2016 № 1811-па-нп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TextBox 4"/>
          <p:cNvSpPr/>
          <p:nvPr/>
        </p:nvSpPr>
        <p:spPr>
          <a:xfrm>
            <a:off x="3357720" y="4572000"/>
            <a:ext cx="556236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роки реализации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униципальной программы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9-2024 годы и на период до 2030 год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Oval 6"/>
          <p:cNvSpPr/>
          <p:nvPr/>
        </p:nvSpPr>
        <p:spPr>
          <a:xfrm>
            <a:off x="8758080" y="6572160"/>
            <a:ext cx="362160" cy="270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33DC174A-7833-49CB-9DE1-3814A0035341}" type="slidenum"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3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11890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E:\мультики\герб мвд.jpg"/>
          <p:cNvPicPr/>
          <p:nvPr/>
        </p:nvPicPr>
        <p:blipFill>
          <a:blip r:embed="rId2"/>
          <a:stretch/>
        </p:blipFill>
        <p:spPr>
          <a:xfrm>
            <a:off x="7831080" y="0"/>
            <a:ext cx="1312920" cy="10206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C:\Users\VShishkanov.ADMOIL\Downloads\герб.gif"/>
          <p:cNvPicPr/>
          <p:nvPr/>
        </p:nvPicPr>
        <p:blipFill>
          <a:blip r:embed="rId3"/>
          <a:stretch/>
        </p:blipFill>
        <p:spPr>
          <a:xfrm>
            <a:off x="-38160" y="-55440"/>
            <a:ext cx="965160" cy="1236600"/>
          </a:xfrm>
          <a:prstGeom prst="rect">
            <a:avLst/>
          </a:prstGeom>
          <a:ln w="0">
            <a:noFill/>
          </a:ln>
        </p:spPr>
      </p:pic>
      <p:sp>
        <p:nvSpPr>
          <p:cNvPr id="232" name="Oval 6"/>
          <p:cNvSpPr/>
          <p:nvPr/>
        </p:nvSpPr>
        <p:spPr>
          <a:xfrm>
            <a:off x="8783640" y="6588000"/>
            <a:ext cx="360360" cy="270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7784A18E-9F5B-4A99-A46C-40AF10B0C71A}" type="slidenum"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3" name="Заголовок 1" descr=""/>
          <p:cNvPicPr/>
          <p:nvPr/>
        </p:nvPicPr>
        <p:blipFill>
          <a:blip r:embed="rId4"/>
          <a:stretch/>
        </p:blipFill>
        <p:spPr>
          <a:xfrm>
            <a:off x="0" y="1073160"/>
            <a:ext cx="9144000" cy="523800"/>
          </a:xfrm>
          <a:prstGeom prst="rect">
            <a:avLst/>
          </a:prstGeom>
          <a:ln w="0">
            <a:noFill/>
          </a:ln>
        </p:spPr>
      </p:pic>
      <p:sp>
        <p:nvSpPr>
          <p:cNvPr id="234" name="TextBox 10"/>
          <p:cNvSpPr/>
          <p:nvPr/>
        </p:nvSpPr>
        <p:spPr>
          <a:xfrm>
            <a:off x="214200" y="16556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</a:t>
            </a:r>
            <a:r>
              <a:rPr b="1" lang="ru-RU" sz="24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TextBox 11"/>
          <p:cNvSpPr/>
          <p:nvPr/>
        </p:nvSpPr>
        <p:spPr>
          <a:xfrm>
            <a:off x="1428840" y="1619280"/>
            <a:ext cx="72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вышение уровня безопасности граждан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TextBox 13"/>
          <p:cNvSpPr/>
          <p:nvPr/>
        </p:nvSpPr>
        <p:spPr>
          <a:xfrm>
            <a:off x="1874880" y="2276640"/>
            <a:ext cx="699624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уровня безопасности граждан. Снижение уровня преступности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Рисунок 1" descr=""/>
          <p:cNvPicPr/>
          <p:nvPr/>
        </p:nvPicPr>
        <p:blipFill>
          <a:blip r:embed="rId5"/>
          <a:stretch/>
        </p:blipFill>
        <p:spPr>
          <a:xfrm>
            <a:off x="195120" y="2706840"/>
            <a:ext cx="1597320" cy="235872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14" descr=""/>
          <p:cNvPicPr/>
          <p:nvPr/>
        </p:nvPicPr>
        <p:blipFill>
          <a:blip r:embed="rId6"/>
          <a:stretch/>
        </p:blipFill>
        <p:spPr>
          <a:xfrm>
            <a:off x="201600" y="4078440"/>
            <a:ext cx="1596960" cy="2139840"/>
          </a:xfrm>
          <a:prstGeom prst="rect">
            <a:avLst/>
          </a:prstGeom>
          <a:ln w="0">
            <a:noFill/>
          </a:ln>
        </p:spPr>
      </p:pic>
      <p:sp>
        <p:nvSpPr>
          <p:cNvPr id="239" name="TextBox 12"/>
          <p:cNvSpPr/>
          <p:nvPr/>
        </p:nvSpPr>
        <p:spPr>
          <a:xfrm>
            <a:off x="233280" y="219564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1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0" name="Рисунок 15" descr=""/>
          <p:cNvPicPr/>
          <p:nvPr/>
        </p:nvPicPr>
        <p:blipFill>
          <a:blip r:embed="rId7"/>
          <a:stretch/>
        </p:blipFill>
        <p:spPr>
          <a:xfrm>
            <a:off x="195120" y="5340240"/>
            <a:ext cx="1614600" cy="212724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16" descr=""/>
          <p:cNvPicPr/>
          <p:nvPr/>
        </p:nvPicPr>
        <p:blipFill>
          <a:blip r:embed="rId8"/>
          <a:stretch/>
        </p:blipFill>
        <p:spPr>
          <a:xfrm>
            <a:off x="2023920" y="4449600"/>
            <a:ext cx="1401840" cy="204336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17" descr=""/>
          <p:cNvPicPr/>
          <p:nvPr/>
        </p:nvPicPr>
        <p:blipFill>
          <a:blip r:embed="rId9"/>
          <a:stretch/>
        </p:blipFill>
        <p:spPr>
          <a:xfrm>
            <a:off x="3602160" y="4449600"/>
            <a:ext cx="1420560" cy="204336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18" descr=""/>
          <p:cNvPicPr/>
          <p:nvPr/>
        </p:nvPicPr>
        <p:blipFill>
          <a:blip r:embed="rId10"/>
          <a:stretch/>
        </p:blipFill>
        <p:spPr>
          <a:xfrm>
            <a:off x="5340240" y="4449600"/>
            <a:ext cx="1573200" cy="20433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" descr=""/>
          <p:cNvPicPr/>
          <p:nvPr/>
        </p:nvPicPr>
        <p:blipFill>
          <a:blip r:embed="rId11"/>
          <a:stretch/>
        </p:blipFill>
        <p:spPr>
          <a:xfrm>
            <a:off x="7248600" y="4449600"/>
            <a:ext cx="1523880" cy="20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3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11890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E:\мультики\герб мвд.jpg"/>
          <p:cNvPicPr/>
          <p:nvPr/>
        </p:nvPicPr>
        <p:blipFill>
          <a:blip r:embed="rId2"/>
          <a:stretch/>
        </p:blipFill>
        <p:spPr>
          <a:xfrm>
            <a:off x="7831080" y="0"/>
            <a:ext cx="1312920" cy="10206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C:\Users\VShishkanov.ADMOIL\Downloads\герб.gif"/>
          <p:cNvPicPr/>
          <p:nvPr/>
        </p:nvPicPr>
        <p:blipFill>
          <a:blip r:embed="rId3"/>
          <a:stretch/>
        </p:blipFill>
        <p:spPr>
          <a:xfrm>
            <a:off x="-38160" y="-55440"/>
            <a:ext cx="965160" cy="1236600"/>
          </a:xfrm>
          <a:prstGeom prst="rect">
            <a:avLst/>
          </a:prstGeom>
          <a:ln w="0">
            <a:noFill/>
          </a:ln>
        </p:spPr>
      </p:pic>
      <p:sp>
        <p:nvSpPr>
          <p:cNvPr id="248" name="Oval 6"/>
          <p:cNvSpPr/>
          <p:nvPr/>
        </p:nvSpPr>
        <p:spPr>
          <a:xfrm>
            <a:off x="8783640" y="6588000"/>
            <a:ext cx="360360" cy="270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1A380378-6697-43F7-B159-C984484ECE35}" type="slidenum"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9" name="Заголовок 1" descr=""/>
          <p:cNvPicPr/>
          <p:nvPr/>
        </p:nvPicPr>
        <p:blipFill>
          <a:blip r:embed="rId4"/>
          <a:stretch/>
        </p:blipFill>
        <p:spPr>
          <a:xfrm>
            <a:off x="0" y="1073160"/>
            <a:ext cx="9144000" cy="523800"/>
          </a:xfrm>
          <a:prstGeom prst="rect">
            <a:avLst/>
          </a:prstGeom>
          <a:ln w="0">
            <a:noFill/>
          </a:ln>
        </p:spPr>
      </p:pic>
      <p:sp>
        <p:nvSpPr>
          <p:cNvPr id="250" name="TextBox 13"/>
          <p:cNvSpPr/>
          <p:nvPr/>
        </p:nvSpPr>
        <p:spPr>
          <a:xfrm>
            <a:off x="1874880" y="2276640"/>
            <a:ext cx="699624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условий для деятельности субъектов профилактики наркомании. Реализация профилактического комплекса мер в антинаркотической деятельности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TextBox 12"/>
          <p:cNvSpPr/>
          <p:nvPr/>
        </p:nvSpPr>
        <p:spPr>
          <a:xfrm>
            <a:off x="233280" y="219564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2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Picture 4" descr="https://avatars.mds.yandex.net/get-zen_doc/100325/pub_5d10ad6895065500b1716fbe_5d10ad7c278e6f00af96bd46/scale_1200"/>
          <p:cNvPicPr/>
          <p:nvPr/>
        </p:nvPicPr>
        <p:blipFill>
          <a:blip r:embed="rId5"/>
          <a:stretch/>
        </p:blipFill>
        <p:spPr>
          <a:xfrm>
            <a:off x="243000" y="2698920"/>
            <a:ext cx="1536480" cy="11062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8" descr="http://sch206.minsk.edu.by/sm.aspx?guid=20393"/>
          <p:cNvPicPr/>
          <p:nvPr/>
        </p:nvPicPr>
        <p:blipFill>
          <a:blip r:embed="rId6"/>
          <a:stretch/>
        </p:blipFill>
        <p:spPr>
          <a:xfrm>
            <a:off x="243000" y="4006800"/>
            <a:ext cx="1536480" cy="11145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2" descr="http://vechorka.ru/media/photos/55/55235.jpg"/>
          <p:cNvPicPr/>
          <p:nvPr/>
        </p:nvPicPr>
        <p:blipFill>
          <a:blip r:embed="rId7"/>
          <a:stretch/>
        </p:blipFill>
        <p:spPr>
          <a:xfrm>
            <a:off x="233280" y="5322960"/>
            <a:ext cx="1546200" cy="11304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6" descr="https://mkpale.ru/wp-content/uploads/2020/06/26-%D0%B8%D1%8E%D0%BD%D1%8F-2-2048x653.jpg"/>
          <p:cNvPicPr/>
          <p:nvPr/>
        </p:nvPicPr>
        <p:blipFill>
          <a:blip r:embed="rId8"/>
          <a:stretch/>
        </p:blipFill>
        <p:spPr>
          <a:xfrm>
            <a:off x="1973160" y="4356000"/>
            <a:ext cx="5149800" cy="20973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8" descr="https://aleks-lib.vld.muzkult.ru/media/2019/05/15/1261782315/n-3.gif"/>
          <p:cNvPicPr/>
          <p:nvPr/>
        </p:nvPicPr>
        <p:blipFill>
          <a:blip r:embed="rId9"/>
          <a:stretch/>
        </p:blipFill>
        <p:spPr>
          <a:xfrm>
            <a:off x="7223040" y="4467240"/>
            <a:ext cx="178272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Заголовок 3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11890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" descr="E:\мультики\герб мвд.jpg"/>
          <p:cNvPicPr/>
          <p:nvPr/>
        </p:nvPicPr>
        <p:blipFill>
          <a:blip r:embed="rId2"/>
          <a:stretch/>
        </p:blipFill>
        <p:spPr>
          <a:xfrm>
            <a:off x="7831080" y="0"/>
            <a:ext cx="1312920" cy="10206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C:\Users\VShishkanov.ADMOIL\Downloads\герб.gif"/>
          <p:cNvPicPr/>
          <p:nvPr/>
        </p:nvPicPr>
        <p:blipFill>
          <a:blip r:embed="rId3"/>
          <a:stretch/>
        </p:blipFill>
        <p:spPr>
          <a:xfrm>
            <a:off x="6480" y="0"/>
            <a:ext cx="876240" cy="1125360"/>
          </a:xfrm>
          <a:prstGeom prst="rect">
            <a:avLst/>
          </a:prstGeom>
          <a:ln w="0">
            <a:noFill/>
          </a:ln>
        </p:spPr>
      </p:pic>
      <p:sp>
        <p:nvSpPr>
          <p:cNvPr id="260" name="TextBox 6"/>
          <p:cNvSpPr/>
          <p:nvPr/>
        </p:nvSpPr>
        <p:spPr>
          <a:xfrm>
            <a:off x="179280" y="191628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ветственный исполнитель муниципальной программы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1" name="Заголовок 1" descr=""/>
          <p:cNvPicPr/>
          <p:nvPr/>
        </p:nvPicPr>
        <p:blipFill>
          <a:blip r:embed="rId4"/>
          <a:stretch/>
        </p:blipFill>
        <p:spPr>
          <a:xfrm>
            <a:off x="0" y="1073160"/>
            <a:ext cx="9144000" cy="500040"/>
          </a:xfrm>
          <a:prstGeom prst="rect">
            <a:avLst/>
          </a:prstGeom>
          <a:ln w="0">
            <a:noFill/>
          </a:ln>
        </p:spPr>
      </p:pic>
      <p:sp>
        <p:nvSpPr>
          <p:cNvPr id="262" name="TextBox 8"/>
          <p:cNvSpPr/>
          <p:nvPr/>
        </p:nvSpPr>
        <p:spPr>
          <a:xfrm>
            <a:off x="936720" y="2421000"/>
            <a:ext cx="79293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ция Нефтеюганского района (комитет гражданской защиты населения Нефтеюганского района)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TextBox 9"/>
          <p:cNvSpPr/>
          <p:nvPr/>
        </p:nvSpPr>
        <p:spPr>
          <a:xfrm>
            <a:off x="179280" y="3284640"/>
            <a:ext cx="55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исполнители муниципальной программы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TextBox 10"/>
          <p:cNvSpPr/>
          <p:nvPr/>
        </p:nvSpPr>
        <p:spPr>
          <a:xfrm>
            <a:off x="324000" y="3774960"/>
            <a:ext cx="8613720" cy="26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Структурные подразделения администрации Нефтеюганского района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дминистративная комиссия;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юридический комитет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дел по делам несовершеннолетних, защите их прав.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МКУ «Управление по делам администрации Нефтеюганского района».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Администрации городского и сельских поселений Нефтеюганского района.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Департамент образования и молодежной политики Нефтеюганского района.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Oval 6"/>
          <p:cNvSpPr/>
          <p:nvPr/>
        </p:nvSpPr>
        <p:spPr>
          <a:xfrm>
            <a:off x="8783640" y="6588000"/>
            <a:ext cx="360360" cy="270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195F70ED-ABDD-49FD-9954-9D14A4C3C7A5}" type="slidenum"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Oval 6"/>
          <p:cNvSpPr/>
          <p:nvPr/>
        </p:nvSpPr>
        <p:spPr>
          <a:xfrm>
            <a:off x="8783640" y="6588000"/>
            <a:ext cx="360360" cy="270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D1771D4E-06D1-42DC-BD57-EB523CD6B1E2}" type="slidenum"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108000" y="133200"/>
          <a:ext cx="8928000" cy="6535800"/>
        </p:xfrm>
        <a:graphic>
          <a:graphicData uri="http://schemas.openxmlformats.org/drawingml/2006/table">
            <a:tbl>
              <a:tblPr/>
              <a:tblGrid>
                <a:gridCol w="1060560"/>
                <a:gridCol w="1512720"/>
                <a:gridCol w="1060560"/>
                <a:gridCol w="934920"/>
                <a:gridCol w="934920"/>
                <a:gridCol w="846360"/>
                <a:gridCol w="744480"/>
                <a:gridCol w="1833480"/>
              </a:tblGrid>
              <a:tr h="248760">
                <a:tc rowSpan="2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№</a:t>
                      </a:r>
                      <a:br>
                        <a:rPr sz="800"/>
                      </a:b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/п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аименование мероприят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Источники финансирова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gridSpan="2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бъём финансирования,</a:t>
                      </a:r>
                      <a:br>
                        <a:rPr sz="800"/>
                      </a:b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тыс. рубл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Абсолютное отклонение,</a:t>
                      </a:r>
                      <a:br>
                        <a:rPr sz="800"/>
                      </a:b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тыс. рублей</a:t>
                      </a:r>
                      <a:br>
                        <a:rPr sz="800"/>
                      </a:b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(гр. 5 - гр. 4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ыполнение плана,</a:t>
                      </a:r>
                      <a:br>
                        <a:rPr sz="800"/>
                      </a:b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%</a:t>
                      </a:r>
                      <a:br>
                        <a:rPr sz="800"/>
                      </a:b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(гр. 5 / гр. 4 * 10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римечани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61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лановое значени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фактическое значени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684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127080">
                <a:tc gridSpan="8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Задача 1. Создание и совершенствование условий для обеспечения общественного порядка, в том числе с участием гражда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8760">
                <a:tc rowSpan="7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.1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rowSpan="7">
                  <a:txBody>
                    <a:bodyPr lIns="5040" rIns="5040" tIns="50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оздание условий для деятельности народных дружи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сего: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49,8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49,8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0,0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rowSpan="7">
                  <a:txBody>
                    <a:bodyPr lIns="5040" rIns="5040" tIns="50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Денежные средства направлены на выплаты материального стимулирования членов народных дружин, страхование жизни и здоровья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4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Федеральный бюджет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Бюджет автономного округа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4,9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4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0,0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Местный бюджет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редства по Соглашениям по передаче полномочий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редства поселений *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4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4,9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0,0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Иные  источники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8760">
                <a:tc rowSpan="7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.2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rowSpan="7">
                  <a:txBody>
                    <a:bodyPr lIns="5040" rIns="5040" tIns="50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равовое просвещение и правовое информирование насел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сего: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40,0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40,0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0,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rowSpan="7">
                  <a:txBody>
                    <a:bodyPr lIns="5040" rIns="5040" tIns="50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4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Федеральный бюджет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Бюджет автономного округа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Местный бюджет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40,0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40,0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0,0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редства по Соглашениям по передаче полномочий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редства поселений *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Иные  источники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8760">
                <a:tc rowSpan="7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.3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rowSpan="7">
                  <a:txBody>
                    <a:bodyPr lIns="5040" rIns="5040" tIns="50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рганизация и проведение мероприятий, направленных на профилактику правонарушений несовершеннолетни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сего: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0,0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0,0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0,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rowSpan="7">
                  <a:txBody>
                    <a:bodyPr lIns="5040" rIns="5040" tIns="50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4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Федеральный бюджет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Бюджет автономного округа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Местный бюджет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0,0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0,0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0,0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редства по Соглашениям по передаче полномочий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редства поселений *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Иные  источники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Oval 6"/>
          <p:cNvSpPr/>
          <p:nvPr/>
        </p:nvSpPr>
        <p:spPr>
          <a:xfrm>
            <a:off x="8783640" y="6588000"/>
            <a:ext cx="360360" cy="270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01E27844-7118-4782-919B-05D1BE5F292C}" type="slidenum"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08000" y="0"/>
          <a:ext cx="8785080" cy="6684840"/>
        </p:xfrm>
        <a:graphic>
          <a:graphicData uri="http://schemas.openxmlformats.org/drawingml/2006/table">
            <a:tbl>
              <a:tblPr/>
              <a:tblGrid>
                <a:gridCol w="1042920"/>
                <a:gridCol w="1490760"/>
                <a:gridCol w="1042920"/>
                <a:gridCol w="919080"/>
                <a:gridCol w="920880"/>
                <a:gridCol w="831960"/>
                <a:gridCol w="731520"/>
                <a:gridCol w="1805040"/>
              </a:tblGrid>
              <a:tr h="109080">
                <a:tc rowSpan="7"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.4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rowSpan="7">
                  <a:txBody>
                    <a:bodyPr lIns="2160" rIns="2160" tIns="21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существление отдельных государственных полномочий по созданию административных комиссий и определению перечня должностных лиц органов местного самоуправления, уполномоченных составлять протоколы </a:t>
                      </a:r>
                      <a:br>
                        <a:rPr sz="700"/>
                      </a:b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б административных правонарушениях, предусмотренных пунктом 2 статьи 48 Закона Ханты-Мансийского автономного округа – Югры от 11 июня 2010 года </a:t>
                      </a:r>
                      <a:br>
                        <a:rPr sz="700"/>
                      </a:b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№ 102-оз «Об административных правонарушениях.</a:t>
                      </a:r>
                      <a:br>
                        <a:rPr sz="700"/>
                      </a:b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сего: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793,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793,6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,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9,9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rowSpan="7">
                  <a:txBody>
                    <a:bodyPr lIns="2160" rIns="2160" tIns="21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Денежные средства направлены на заработную плату (выплачены в полном объеме согласно отработанному времени), а также на услуги связи (оплачены по факту выставленных счет-фактур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10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Федеральный бюджет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Бюджет автономного округ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741,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741,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,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9,9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Местный бюджет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2,6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2,6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0,0-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редства по Соглашениям по передаче полномоч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редства поселений *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20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Иные  источник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080">
                <a:tc rowSpan="7"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.5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rowSpan="7">
                  <a:txBody>
                    <a:bodyPr lIns="2160" rIns="2160" tIns="21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существление государственных полномочий по составлению (изменению и дополнению) списков кандидатов в присяжные заседатели федеральных судов общей юрисдикци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сего: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,4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,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,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8,6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rowSpan="7">
                  <a:txBody>
                    <a:bodyPr lIns="2160" rIns="2160" tIns="21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роведена рассылка уведомлений кандидатам в присяжные заседатели федеральных судов общей юрисдикции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Федеральный бюджет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,4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,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,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8,6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Бюджет автономного округа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Местный бюджет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редства по Соглашениям по передаче полномоч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редства поселений *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Иные  источник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080">
                <a:tc gridSpan="8"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Задача 2.  Создание условий для деятельности субъектов профилактики наркомании. Реализация профилактического комплекса мер в антинаркотической деятельности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080">
                <a:tc rowSpan="7"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.1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rowSpan="7">
                  <a:txBody>
                    <a:bodyPr lIns="2160" rIns="2160" tIns="21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рганизация и проведение мероприятий по профилактике незаконного потребления наркотических средств и психотропных веществ, наркомани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сего: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rowSpan="7">
                  <a:txBody>
                    <a:bodyPr lIns="2160" rIns="2160" tIns="21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10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Федеральный бюджет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Бюджет автономного округа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Местный бюджет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редства по Соглашениям по передаче полномоч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редства поселений *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Иные  источник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080">
                <a:tc gridSpan="2" rowSpan="7"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сего по программе: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сего: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162,2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160,9                    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,4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9,9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rowSpan="7"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109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Федеральный бюджет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,4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,3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,1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8,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Бюджет автономного округа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816,2                    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815,9            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,3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0,0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Местный бюджет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42,6                                  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42,6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0,0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редства по Соглашениям по передаче полномоч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редства поселений *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4,9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4,9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0,0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9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Иные  источники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        </a:t>
                      </a:r>
                      <a:r>
                        <a:rPr b="0" lang="ru-RU" sz="6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         </a:t>
                      </a:r>
                      <a:r>
                        <a:rPr b="0" lang="ru-RU" sz="6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     </a:t>
                      </a:r>
                      <a:r>
                        <a:rPr b="0" lang="ru-RU" sz="6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</a:t>
                      </a:r>
                      <a:r>
                        <a:rPr b="0" lang="ru-RU" sz="6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Заголовок 3" descr=""/>
          <p:cNvPicPr/>
          <p:nvPr/>
        </p:nvPicPr>
        <p:blipFill>
          <a:blip r:embed="rId1"/>
          <a:stretch/>
        </p:blipFill>
        <p:spPr>
          <a:xfrm>
            <a:off x="0" y="-60480"/>
            <a:ext cx="9144000" cy="118764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3" descr="E:\мультики\герб мвд.jpg"/>
          <p:cNvPicPr/>
          <p:nvPr/>
        </p:nvPicPr>
        <p:blipFill>
          <a:blip r:embed="rId2"/>
          <a:stretch/>
        </p:blipFill>
        <p:spPr>
          <a:xfrm>
            <a:off x="7831080" y="0"/>
            <a:ext cx="1312920" cy="10206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6" descr="C:\Users\VShishkanov.ADMOIL\Downloads\герб.gif"/>
          <p:cNvPicPr/>
          <p:nvPr/>
        </p:nvPicPr>
        <p:blipFill>
          <a:blip r:embed="rId3"/>
          <a:stretch/>
        </p:blipFill>
        <p:spPr>
          <a:xfrm>
            <a:off x="6480" y="0"/>
            <a:ext cx="876240" cy="1125360"/>
          </a:xfrm>
          <a:prstGeom prst="rect">
            <a:avLst/>
          </a:prstGeom>
          <a:ln w="0">
            <a:noFill/>
          </a:ln>
        </p:spPr>
      </p:pic>
      <p:pic>
        <p:nvPicPr>
          <p:cNvPr id="273" name="Заголовок 1" descr=""/>
          <p:cNvPicPr/>
          <p:nvPr/>
        </p:nvPicPr>
        <p:blipFill>
          <a:blip r:embed="rId4"/>
          <a:stretch/>
        </p:blipFill>
        <p:spPr>
          <a:xfrm>
            <a:off x="0" y="1127160"/>
            <a:ext cx="9144000" cy="573120"/>
          </a:xfrm>
          <a:prstGeom prst="rect">
            <a:avLst/>
          </a:prstGeom>
          <a:ln w="0">
            <a:noFill/>
          </a:ln>
        </p:spPr>
      </p:pic>
      <p:sp>
        <p:nvSpPr>
          <p:cNvPr id="274" name="Oval 6"/>
          <p:cNvSpPr/>
          <p:nvPr/>
        </p:nvSpPr>
        <p:spPr>
          <a:xfrm>
            <a:off x="8783640" y="6588000"/>
            <a:ext cx="360360" cy="270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38EFB90C-089C-4F06-B85B-9EB1C960D337}" type="slidenum"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108000" y="1228680"/>
          <a:ext cx="8928000" cy="5492880"/>
        </p:xfrm>
        <a:graphic>
          <a:graphicData uri="http://schemas.openxmlformats.org/drawingml/2006/table">
            <a:tbl>
              <a:tblPr/>
              <a:tblGrid>
                <a:gridCol w="1098360"/>
                <a:gridCol w="2481480"/>
                <a:gridCol w="828720"/>
                <a:gridCol w="1331640"/>
                <a:gridCol w="1332000"/>
                <a:gridCol w="1163880"/>
                <a:gridCol w="691920"/>
              </a:tblGrid>
              <a:tr h="314280"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№</a:t>
                      </a:r>
                      <a:br>
                        <a:rPr sz="700"/>
                      </a:b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/п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аименование целевых показателе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Единица измерен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grid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Результат реализации програм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Абсолютное отклонение</a:t>
                      </a:r>
                      <a:br>
                        <a:rPr sz="700"/>
                      </a:b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(гр. 5 - гр. 4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ценка в баллах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лановый </a:t>
                      </a:r>
                      <a:br>
                        <a:rPr sz="700"/>
                      </a:b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оказатель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фактически </a:t>
                      </a:r>
                      <a:br>
                        <a:rPr sz="700"/>
                      </a:b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исполнен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156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53800">
                <a:tc gridSpan="7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ча 1. Создание и совершенствование условий для обеспечения общественного порядка, в том числе с участием граждан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3692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Доля административных правонарушений, посягающих на общественный порядок и общественную безопасность, выявленных с участием народных дружинников (глава 20 КоАП РФ), в общем количестве таких правонарушений</a:t>
                      </a:r>
                      <a:br>
                        <a:rPr sz="700"/>
                      </a:b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,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,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,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82224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Доля уличных преступлений в числе зарегистрированных общеуголовных преступлений*  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9,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,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12,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152244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нижение уровня преступности (число зарегистрированных преступлений на 100 тыс. человек населения) **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ед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4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38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7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" name=""/>
          <p:cNvGraphicFramePr/>
          <p:nvPr/>
        </p:nvGraphicFramePr>
        <p:xfrm>
          <a:off x="88920" y="1197000"/>
          <a:ext cx="8964720" cy="5472000"/>
        </p:xfrm>
        <a:graphic>
          <a:graphicData uri="http://schemas.openxmlformats.org/drawingml/2006/table">
            <a:tbl>
              <a:tblPr/>
              <a:tblGrid>
                <a:gridCol w="311040"/>
                <a:gridCol w="2824200"/>
                <a:gridCol w="944640"/>
                <a:gridCol w="1252440"/>
                <a:gridCol w="1517760"/>
                <a:gridCol w="1326960"/>
                <a:gridCol w="787680"/>
              </a:tblGrid>
              <a:tr h="652320">
                <a:tc gridSpan="7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ча 2.  Создание условий для деятельности субъектов профилактики наркомании. Реализация профилактического комплекса мер в антинаркотической деятельност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3984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нижение распространенности наркомании (на 100 тыс. населения)***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чел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99,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1,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148,5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187956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охранение доли обучающихся, прошедших социально-психологическое тестирование с целью раннего выявления незаконного потребления наркотических средств и психотропных веществ, в общем количестве обучающихся, %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,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412920">
                <a:tc gridSpan="6"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Итого сумма баллов: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1287360">
                <a:tc gridSpan="7"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* Снижение показателя имеет положительную динамику, т.к. это указывает на снижение общеуголовной уличной преступности</a:t>
                      </a:r>
                      <a:br>
                        <a:rPr sz="700"/>
                      </a:b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**Снижение показателя имеет положительную динамику, т.к. это указывает на снижение уровня преступности     </a:t>
                      </a:r>
                      <a:br>
                        <a:rPr sz="700"/>
                      </a:b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*** Снижение показателя имеет положительную динамику, т.к. это указывает на снижение распространенности наркомании                 </a:t>
                      </a:r>
                      <a:br>
                        <a:rPr sz="700"/>
                      </a:b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                                                                          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277" name="Заголовок 3" descr=""/>
          <p:cNvPicPr/>
          <p:nvPr/>
        </p:nvPicPr>
        <p:blipFill>
          <a:blip r:embed="rId1"/>
          <a:stretch/>
        </p:blipFill>
        <p:spPr>
          <a:xfrm>
            <a:off x="0" y="-60480"/>
            <a:ext cx="9144000" cy="11876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C:\Users\VShishkanov.ADMOIL\Downloads\герб.gif"/>
          <p:cNvPicPr/>
          <p:nvPr/>
        </p:nvPicPr>
        <p:blipFill>
          <a:blip r:embed="rId2"/>
          <a:stretch/>
        </p:blipFill>
        <p:spPr>
          <a:xfrm>
            <a:off x="6480" y="0"/>
            <a:ext cx="876240" cy="112536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3" descr="E:\мультики\герб мвд.jpg"/>
          <p:cNvPicPr/>
          <p:nvPr/>
        </p:nvPicPr>
        <p:blipFill>
          <a:blip r:embed="rId3"/>
          <a:stretch/>
        </p:blipFill>
        <p:spPr>
          <a:xfrm>
            <a:off x="7831080" y="0"/>
            <a:ext cx="1312920" cy="102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03T10:12:35Z</dcterms:created>
  <dc:creator>Белоус Вадим Петрович</dc:creator>
  <dc:description/>
  <dc:language>en-US</dc:language>
  <cp:lastModifiedBy>Белоус Вадим Петрович</cp:lastModifiedBy>
  <dcterms:modified xsi:type="dcterms:W3CDTF">2022-02-11T07:16:56Z</dcterms:modified>
  <cp:revision>45</cp:revision>
  <dc:subject/>
  <dc:title>Администрация Нефтеюганского района Ханты-Мансийский автономный округ - Югра</dc:title>
</cp:coreProperties>
</file>