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402D3-133D-49EF-B2E9-1478B43E3B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36516-B994-48CB-B23F-F8E7000CDA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53095-760C-4451-9C75-CF400225E0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D5D7F-C9A3-41E4-8036-D1913B0B23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B801B-211E-4F88-B56D-1D8B706970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ED76-EAA0-459D-B781-13DD3A4BD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88920"/>
            <a:ext cx="86868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4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05920"/>
            <a:ext cx="8686800" cy="24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C3E0-A02D-4C4E-8ED1-EE2AE3D0D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88920"/>
            <a:ext cx="86868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05920"/>
            <a:ext cx="4239000" cy="24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05920"/>
            <a:ext cx="4239000" cy="24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CA3D-F1CF-4FF5-A5BF-51090ED6F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88920"/>
            <a:ext cx="86868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4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4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4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05920"/>
            <a:ext cx="2796840" cy="24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05920"/>
            <a:ext cx="2796840" cy="24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05920"/>
            <a:ext cx="2796840" cy="24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534F-F716-498B-B046-2B304E809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F2C4E-B639-4FDF-B91C-D5157548F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88920"/>
            <a:ext cx="86868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09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CFC26-D8F2-4B4B-9FE9-AB6688761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88920"/>
            <a:ext cx="86868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0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9C6A5-6B04-4C05-8F2E-86E0B4BF2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88920"/>
            <a:ext cx="86868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0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0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5F7B7-3AE5-4850-B823-896D79121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88920"/>
            <a:ext cx="86868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F347B-5AEC-418D-8916-C47387682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88920"/>
            <a:ext cx="868680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76B06-E6D3-4D5F-AF3F-A513CB0C5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88920"/>
            <a:ext cx="86868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0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05920"/>
            <a:ext cx="4239000" cy="24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A9655-7381-40E3-9F01-E4432A15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88920"/>
            <a:ext cx="86868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09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FE46-01DD-44FE-98C0-929ED410A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88920"/>
            <a:ext cx="86868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0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05920"/>
            <a:ext cx="4239000" cy="24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C4869-DD46-415F-A8D2-A5DFB06F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88920"/>
            <a:ext cx="86868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05920"/>
            <a:ext cx="8686800" cy="24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85E73-F323-48E8-ADAB-B7E38D8B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88920"/>
            <a:ext cx="86868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4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05920"/>
            <a:ext cx="8686800" cy="24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C49F2-DAD6-49DB-B48F-CF188DFD9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88920"/>
            <a:ext cx="86868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05920"/>
            <a:ext cx="4239000" cy="24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05920"/>
            <a:ext cx="4239000" cy="24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0443C-C0C3-450B-9AB6-ED43759D7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88920"/>
            <a:ext cx="86868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4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4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4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05920"/>
            <a:ext cx="2796840" cy="24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05920"/>
            <a:ext cx="2796840" cy="24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05920"/>
            <a:ext cx="2796840" cy="24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08F6F-8CCC-404D-9F11-417D45CD8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88920"/>
            <a:ext cx="86868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0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56F0-698C-4C0D-81EA-5DBFF5267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88920"/>
            <a:ext cx="86868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0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0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D9F9-0513-4FCF-8069-9E65C2BB0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88920"/>
            <a:ext cx="86868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16E5-5218-427C-883E-25ABF9825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88920"/>
            <a:ext cx="868680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CA2B-5B72-4B15-86AF-9B61130B6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88920"/>
            <a:ext cx="86868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0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05920"/>
            <a:ext cx="4239000" cy="24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1A69-B66E-4377-A5EF-46B041602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88920"/>
            <a:ext cx="86868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0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05920"/>
            <a:ext cx="4239000" cy="24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6E5E-0A10-43AC-B695-CAAA96CE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88920"/>
            <a:ext cx="86868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05920"/>
            <a:ext cx="8686800" cy="24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05EC-88F7-4F3A-A603-AF6961747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88920"/>
            <a:ext cx="86868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0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PresentationPro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3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8FD2C-12AA-4EF6-869B-14A5EF94B0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88920"/>
            <a:ext cx="86868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0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282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PresentationPro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3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E9A1A-57F0-47F6-B0BF-5FCFE6A606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3124080"/>
            <a:ext cx="88282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чет о ходе реализации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униципальной программы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ubtitle 4"/>
          <p:cNvSpPr/>
          <p:nvPr/>
        </p:nvSpPr>
        <p:spPr>
          <a:xfrm>
            <a:off x="357120" y="4038480"/>
            <a:ext cx="8686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Развитие транспортной системы Нефтеюганского района на 2019-2024 годы и на период до 2030  года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TextBox 6" descr=""/>
          <p:cNvPicPr/>
          <p:nvPr/>
        </p:nvPicPr>
        <p:blipFill>
          <a:blip r:embed="rId1"/>
          <a:stretch/>
        </p:blipFill>
        <p:spPr>
          <a:xfrm>
            <a:off x="1146240" y="231840"/>
            <a:ext cx="7491240" cy="1566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C:\Users\rahmatulinaei\Desktop\Исходящие\Лого без  слогана.png"/>
          <p:cNvPicPr/>
          <p:nvPr/>
        </p:nvPicPr>
        <p:blipFill>
          <a:blip r:embed="rId2"/>
          <a:stretch/>
        </p:blipFill>
        <p:spPr>
          <a:xfrm>
            <a:off x="152280" y="157320"/>
            <a:ext cx="1573200" cy="1206360"/>
          </a:xfrm>
          <a:prstGeom prst="rect">
            <a:avLst/>
          </a:prstGeom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93" name="Прямоугольник 1"/>
          <p:cNvSpPr/>
          <p:nvPr/>
        </p:nvSpPr>
        <p:spPr>
          <a:xfrm>
            <a:off x="0" y="5791320"/>
            <a:ext cx="29718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ru-RU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ГЛАСОВАН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ректор департамента строительства и жилищно - коммунального комплекса Нефтеюганского района - заместитель главы района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ru-RU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__________________________  В.С.Кошако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5986440" y="-36360"/>
            <a:ext cx="2554200" cy="37908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4920" y="403848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 algn="ctr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витие современной транспортной инфраструктуры, обеспечивающей повышение доступности и безопасности транспортных услуг для населения Нефтеюганского райо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Прямоугольник 1" descr=""/>
          <p:cNvPicPr/>
          <p:nvPr/>
        </p:nvPicPr>
        <p:blipFill>
          <a:blip r:embed="rId2"/>
          <a:stretch/>
        </p:blipFill>
        <p:spPr>
          <a:xfrm>
            <a:off x="536400" y="384120"/>
            <a:ext cx="5407200" cy="10731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6" descr="P7200288"/>
          <p:cNvPicPr/>
          <p:nvPr/>
        </p:nvPicPr>
        <p:blipFill>
          <a:blip r:embed="rId1"/>
          <a:stretch/>
        </p:blipFill>
        <p:spPr>
          <a:xfrm>
            <a:off x="-19080" y="1133640"/>
            <a:ext cx="3292560" cy="495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3123720" y="2057400"/>
            <a:ext cx="586764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еспечение доступности и повышение качества транспортных услуг, оказываемых автомобильным транспорт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еспечение функционирования сети автомобильных дорог общего пользования местного значения, в том числе автомобильных дорог, являющихся подъездами к сельским населенным пункта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240840"/>
            <a:ext cx="8686800" cy="97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Задачи муниципальной программы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6480"/>
            <a:ext cx="8686800" cy="98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сновные мероприятия муниципальной программ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28600" y="1676160"/>
            <a:ext cx="86104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одпрограмма 1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Calibri"/>
              </a:rPr>
              <a:t>Автомобильный транспорт и дорожное хозяйств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1.1. Обеспечение повышения качества  и доступности транспортных услуг, оказываемых с использованием автомобильного транспорта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1.2. Капитальный ремонт, ремонт и содержание  автомобильных дорог  и искусственных дорожных сооружений общего пользования местного значения муниципального района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1.3. Строительство, реконструкция, капитальный ремонт, ремонт и содержание автомобильных дорог общего пользования местного значения поселений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1.4. Капитальный ремонт автомобильной дороги «Подъездная автодорога к          сп. Усть-Юган, протяжённостью 17,606 км»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Объём финансирования на 2022 год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4257720" cy="80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лановое значение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243 887,65852  тысяч рубл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Объект 7" descr=""/>
          <p:cNvPicPr/>
          <p:nvPr/>
        </p:nvPicPr>
        <p:blipFill>
          <a:blip r:embed="rId1"/>
          <a:stretch/>
        </p:blipFill>
        <p:spPr>
          <a:xfrm>
            <a:off x="231840" y="2120760"/>
            <a:ext cx="4529160" cy="414036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76560" y="1523520"/>
            <a:ext cx="3965400" cy="71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6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актическое значение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243 441,98242 тысяч рубл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Объект 8" descr=""/>
          <p:cNvPicPr/>
          <p:nvPr/>
        </p:nvPicPr>
        <p:blipFill>
          <a:blip r:embed="rId2"/>
          <a:stretch/>
        </p:blipFill>
        <p:spPr>
          <a:xfrm>
            <a:off x="4645080" y="2163600"/>
            <a:ext cx="4041720" cy="40975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28440"/>
            <a:ext cx="8686800" cy="24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Исполнение расходных обязательств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 2022год </a:t>
            </a:r>
            <a:br>
              <a:rPr sz="2800"/>
            </a:b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полнение плана по исполнению финансовых показателей   муниципальной программы  составило  99,8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Нижний колонтитул 3"/>
          <p:cNvSpPr/>
          <p:nvPr/>
        </p:nvSpPr>
        <p:spPr>
          <a:xfrm>
            <a:off x="3124080" y="6400800"/>
            <a:ext cx="2895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Объект 7" descr=""/>
          <p:cNvPicPr/>
          <p:nvPr/>
        </p:nvPicPr>
        <p:blipFill>
          <a:blip r:embed="rId1"/>
          <a:stretch/>
        </p:blipFill>
        <p:spPr>
          <a:xfrm>
            <a:off x="536400" y="2200320"/>
            <a:ext cx="7540920" cy="40482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сполнение целевых показателей за 2022 г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762120"/>
            <a:ext cx="4040280" cy="38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Плановый показате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0880" y="1371600"/>
            <a:ext cx="4267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1. Износ парка автобусов организаций автомобильного транспорта, осуществляющих перевозки пассажиров  </a:t>
            </a:r>
            <a:r>
              <a:rPr b="1" lang="ru-RU" sz="1100" spc="-1" strike="noStrike">
                <a:solidFill>
                  <a:srgbClr val="ffff00"/>
                </a:solidFill>
                <a:latin typeface="Arial"/>
              </a:rPr>
              <a:t>66,8%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</a:t>
            </a: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2. Объём пассажирских перевозок автомобильным транспортом в муниципальном сообщении </a:t>
            </a:r>
            <a:r>
              <a:rPr b="1" lang="ru-RU" sz="1100" spc="-1" strike="noStrike">
                <a:solidFill>
                  <a:srgbClr val="ffff00"/>
                </a:solidFill>
                <a:latin typeface="Arial"/>
              </a:rPr>
              <a:t>35,0 тыс. чел.   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3. Протяженность сети автомобильных дорог общего пользования местного значения </a:t>
            </a:r>
            <a:r>
              <a:rPr b="1" lang="ru-RU" sz="1100" spc="-1" strike="noStrike">
                <a:solidFill>
                  <a:srgbClr val="ffff00"/>
                </a:solidFill>
                <a:latin typeface="Arial"/>
              </a:rPr>
              <a:t>176,2 км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4. Общая протяжённость автомобильных дорог общего пользования местного значения, не соответствующих нормативным требованиям к транспортно-эксплуатационным показателям на 31 декабря отчётного года </a:t>
            </a:r>
            <a:r>
              <a:rPr b="1" lang="ru-RU" sz="1100" spc="-1" strike="noStrike">
                <a:solidFill>
                  <a:srgbClr val="ffff00"/>
                </a:solidFill>
                <a:latin typeface="Arial"/>
              </a:rPr>
              <a:t>9,3 км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5. Прирост протяжённости автомобильных дорог общего пользования местного значения, соответствующих нормативным требованиям к транспортно-эксплуатационным показателям, в результате капитального ремонта и ремонта автомобильных дорог </a:t>
            </a:r>
            <a:r>
              <a:rPr b="1" lang="ru-RU" sz="1100" spc="-1" strike="noStrike">
                <a:solidFill>
                  <a:srgbClr val="ffff00"/>
                </a:solidFill>
                <a:latin typeface="Arial"/>
              </a:rPr>
              <a:t>5,1 км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6. Доля автомобильных дорог общего пользования местного значения, соответствующих нормативным требованиям к транспортно-эксплуатационным показателям, в общей протяжённости автомобильных дорог общего пользования местного значения   </a:t>
            </a:r>
            <a:r>
              <a:rPr b="1" lang="ru-RU" sz="1100" spc="-1" strike="noStrike">
                <a:solidFill>
                  <a:srgbClr val="ffff00"/>
                </a:solidFill>
                <a:latin typeface="Arial"/>
              </a:rPr>
              <a:t>94,7%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4720" y="762120"/>
            <a:ext cx="4041720" cy="38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Фактически исполне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03680" y="1397160"/>
            <a:ext cx="4191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1. Износ парка автобусов организаций автомобильного транспорта, осуществляющих перевозки пассажиров  </a:t>
            </a:r>
            <a:r>
              <a:rPr b="1" lang="ru-RU" sz="1100" spc="-1" strike="noStrike">
                <a:solidFill>
                  <a:srgbClr val="ffff00"/>
                </a:solidFill>
                <a:latin typeface="Arial"/>
              </a:rPr>
              <a:t>66,8%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</a:t>
            </a: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2. Объём пассажирских перевозок автомобильным транспортом в муниципальном сообщении </a:t>
            </a:r>
            <a:r>
              <a:rPr b="1" lang="ru-RU" sz="1100" spc="-1" strike="noStrike">
                <a:solidFill>
                  <a:srgbClr val="ffff00"/>
                </a:solidFill>
                <a:latin typeface="Arial"/>
              </a:rPr>
              <a:t>35.0 тыс. чел.   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3. Протяженность сети автомобильных дорог общего пользования местного значения </a:t>
            </a:r>
            <a:r>
              <a:rPr b="1" lang="ru-RU" sz="1100" spc="-1" strike="noStrike">
                <a:solidFill>
                  <a:srgbClr val="ffff00"/>
                </a:solidFill>
                <a:latin typeface="Arial"/>
              </a:rPr>
              <a:t>178,0 км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4. Общая протяжённость автомобильных дорог общего пользования местного значения, не соответствующих нормативным требованиям к транспортно-эксплуатационным показателям на 31 декабря отчётного года </a:t>
            </a:r>
            <a:r>
              <a:rPr b="1" lang="ru-RU" sz="1100" spc="-1" strike="noStrike">
                <a:solidFill>
                  <a:srgbClr val="ffff00"/>
                </a:solidFill>
                <a:latin typeface="Arial"/>
              </a:rPr>
              <a:t>6,0 км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5. Прирост протяжённости автомобильных дорог общего пользования местного значения, соответствующих нормативным требованиям к транспортно-эксплуатационным показателям, в результате капитального ремонта и ремонта автомобильных дорог </a:t>
            </a:r>
            <a:r>
              <a:rPr b="1" lang="ru-RU" sz="1100" spc="-1" strike="noStrike">
                <a:solidFill>
                  <a:srgbClr val="ffff00"/>
                </a:solidFill>
                <a:latin typeface="Arial"/>
              </a:rPr>
              <a:t>5,1 км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6. Доля автомобильных дорог общего пользования местного значения, соответствующих нормативным требованиям к транспортно-эксплуатационным показателям, в общей протяжённости автомобильных дорог общего пользования местного значения   </a:t>
            </a:r>
            <a:r>
              <a:rPr b="1" lang="ru-RU" sz="1100" spc="-1" strike="noStrike">
                <a:solidFill>
                  <a:srgbClr val="ffff00"/>
                </a:solidFill>
                <a:latin typeface="Arial"/>
              </a:rPr>
              <a:t>96,6%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88920"/>
            <a:ext cx="868680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Ответственный исполнитель     муниципальной программ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51920" y="1219320"/>
            <a:ext cx="88362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епартамент строительства и жилищно-коммунального комплекса Нефтеюганского райо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отдел по транспорту и дорогам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Заголовок 1"/>
          <p:cNvSpPr/>
          <p:nvPr/>
        </p:nvSpPr>
        <p:spPr>
          <a:xfrm>
            <a:off x="225360" y="2438280"/>
            <a:ext cx="87631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Соисполнители муниципальной программ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1680" y="3657240"/>
            <a:ext cx="86868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партамент имущественных отношений Нефтеюганского райо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униципальное казенное учреждение «Управление капитального строительства и жилищно-коммунального комплекса Нефтеюганского района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дминистрации поселений Нефтеюганского райо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14:41:34Z</dcterms:created>
  <dc:creator>Василевская Марина Борисовна</dc:creator>
  <dc:description/>
  <dc:language>en-US</dc:language>
  <cp:lastModifiedBy>Арих Лилия Владиславовна</cp:lastModifiedBy>
  <cp:lastPrinted>2023-01-24T12:15:12Z</cp:lastPrinted>
  <dcterms:modified xsi:type="dcterms:W3CDTF">2023-02-22T09:56:33Z</dcterms:modified>
  <cp:revision>209</cp:revision>
  <dc:subject/>
  <dc:title>Презентация PowerPoint</dc:title>
</cp:coreProperties>
</file>