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7.png" ContentType="image/png"/>
  <Override PartName="/ppt/media/image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AC2-F42B-4726-85B4-AEE0E201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0C3-964B-4BE3-BCBF-0909F88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B77-FC77-4AFA-9962-7B8E27E0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EEA-CA3D-44E8-9431-2353974A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93CD-1653-4C1F-BD44-975CE038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7217-E985-4B97-9DFD-01ABE91F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13D1-8413-4A25-B560-1A3F13A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6DAE-76B0-4E57-B1E5-CD07B7E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CEA-B44D-4A6C-A5F1-7E317C96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BC9-F6D0-4630-8C34-DEC18CBA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87F3-FBA2-4E9F-BD80-F3051A3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7A1-8DE8-4230-A642-5436FA8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839-B4FD-4E66-BF9B-77D6188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321-3E61-49B6-AF5B-6CD9FBD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BB2-1B89-4B6B-BE6E-550E754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B85B-D2E4-45CE-AF13-0D11E9E0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F602-237C-420B-85E8-07D2A9E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25AD-EB5E-4E93-B863-8BE8B4A8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B700-AE70-4A84-ABB1-67AE8473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32FF-859F-40AA-B0F2-072D780F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DFDE-0179-4B00-BAD2-2FC43CDE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9196-B171-4D56-B01A-F8157839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703-1003-4192-85AE-1932EF0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E208-66F1-43D7-AA8C-0108601E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860C-6CE6-4BD4-9846-15AF3B4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A3D1-6378-406C-8A38-E11039E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7F17-AD47-428C-B6F0-E412362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FF69-A12A-455C-845E-C0304AB9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0C92-A680-47E0-A82A-DA322DEE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BD25-38B8-4AE1-A767-6E596962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1601-6E49-4970-A26D-3631544A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A956-F3A1-4363-A7FD-22FAAB9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B9D8-2F1E-42EC-96AF-93525101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510-D748-460A-AD32-4B9BB2B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45F2-7747-4FBF-BD14-88B8299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C9F5-0916-4B0A-B00C-71B0D8C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B8E8-49BA-4F22-98D6-5893322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375D-FD06-442E-B4AA-395D5A6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3180-9095-4F11-AD23-5C1042A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1220-E3C9-4538-B27A-61FE8FE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CA4B-E481-4953-B486-CED6E43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9347-86CD-4C1F-B2FA-E3C92EC6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4160-6C07-429B-9565-57625742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7CD-4C40-4518-BBC2-37F8909F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F5E-FEFB-401E-9B1F-96790B28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56A-9B42-4E58-AF1B-B40B6E0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733-0C81-4F8A-B737-7BBA0E6F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FC6-BCA5-4820-B46A-6001E89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BC4-DFDF-4896-AB6E-B60C447F060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B0B-2916-41AD-B3C9-F2724EF4A5A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81DE-E2CB-4302-9757-B3183C26812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E46-8342-4D6A-9038-4921D9E3921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Объект 4"/>
          <p:cNvGrpSpPr/>
          <p:nvPr/>
        </p:nvGrpSpPr>
        <p:grpSpPr>
          <a:xfrm>
            <a:off x="-133200" y="981000"/>
            <a:ext cx="9410400" cy="6005520"/>
            <a:chOff x="-133200" y="981000"/>
            <a:chExt cx="9410400" cy="6005520"/>
          </a:xfrm>
        </p:grpSpPr>
        <p:pic>
          <p:nvPicPr>
            <p:cNvPr id="216" name="Объект 4" descr=""/>
            <p:cNvPicPr/>
            <p:nvPr/>
          </p:nvPicPr>
          <p:blipFill>
            <a:blip r:embed="rId2"/>
            <a:stretch/>
          </p:blipFill>
          <p:spPr>
            <a:xfrm>
              <a:off x="-133200" y="981000"/>
              <a:ext cx="94104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08000" y="1224000"/>
              <a:ext cx="8928000" cy="55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182520" algn="ctr">
                <a:spcBef>
                  <a:spcPts val="550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4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Муниципальная программа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Нефтеюганского района 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Обеспечение прав и законных интересов населения Нефтеюганского района в отдельных сферах жизнедеятельности в 2019-2024 годах и на период до 2030 года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»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18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VShishkanov.ADMOIL\Downloads\герб.gif"/>
          <p:cNvPicPr/>
          <p:nvPr/>
        </p:nvPicPr>
        <p:blipFill>
          <a:blip r:embed="rId4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7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1"/>
          <p:cNvSpPr/>
          <p:nvPr/>
        </p:nvSpPr>
        <p:spPr>
          <a:xfrm>
            <a:off x="108000" y="1700280"/>
            <a:ext cx="89647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агодаря активному участию граждан в охране общественного порядка и общественной безопасности стабильно сокращается преступность на улицах (-23,4%) и в общественных местах     (-11,9%). Улучшена криминогенная ситуация в жилом секторе (-2,1%), на уровне прошлого года совершено преступлений лицами в состоянии алкогольного опьянения (85), иностранцами (-80%), ранее судимыми (-31,4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уличных преступлений в числе зарегистрированных общеуголовных преступлений» - запланировано 19,6%, выполнено 6,7%. (АППГ – 7,5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результатам в 2021 году отмечено снижение совершенных преступлений (-0,6%, с 629 до 62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Снижение уровня преступности (число зарегистрированных преступлений на 100 тыс. человек населения) - запланировано 1465ед., выполнено1389 ед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членами народной дружины городского и сельских поселений Нефтеюганского района проведено 530 выходов на профилактические рейды и охрану общественного поряд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выявлено административных правонарушений – 178 (АППГ- 24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 – запланировано 2,8%, выполнено 6,6%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9" descr="252"/>
          <p:cNvPicPr/>
          <p:nvPr/>
        </p:nvPicPr>
        <p:blipFill>
          <a:blip r:embed="rId4"/>
          <a:stretch/>
        </p:blipFill>
        <p:spPr>
          <a:xfrm>
            <a:off x="7643880" y="107172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142920" y="1428840"/>
            <a:ext cx="3143160" cy="51433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3357720" y="14288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утвержде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286080" y="25718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Нефтеюганского район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.11.2016 № 1811-па-нп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357720" y="4572000"/>
            <a:ext cx="556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реализ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4 годы и на период до 2030 год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8080" y="6572160"/>
            <a:ext cx="3621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ECAA96-B25B-449A-96BE-E2C100BE6893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32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8CC49A3-91F0-4F0F-8E4B-DC2CD9811EEF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214200" y="16556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1428840" y="161928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уровня безопасности гражда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1874880" y="2276640"/>
            <a:ext cx="69962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безопасности граждан. Снижение уровня преступ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5"/>
          <a:stretch/>
        </p:blipFill>
        <p:spPr>
          <a:xfrm>
            <a:off x="195120" y="2706840"/>
            <a:ext cx="1597320" cy="2358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4" descr=""/>
          <p:cNvPicPr/>
          <p:nvPr/>
        </p:nvPicPr>
        <p:blipFill>
          <a:blip r:embed="rId6"/>
          <a:stretch/>
        </p:blipFill>
        <p:spPr>
          <a:xfrm>
            <a:off x="201600" y="4078440"/>
            <a:ext cx="1596960" cy="2139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15" descr=""/>
          <p:cNvPicPr/>
          <p:nvPr/>
        </p:nvPicPr>
        <p:blipFill>
          <a:blip r:embed="rId7"/>
          <a:stretch/>
        </p:blipFill>
        <p:spPr>
          <a:xfrm>
            <a:off x="195120" y="5340240"/>
            <a:ext cx="1614600" cy="2127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"/>
          <p:cNvPicPr/>
          <p:nvPr/>
        </p:nvPicPr>
        <p:blipFill>
          <a:blip r:embed="rId8"/>
          <a:stretch/>
        </p:blipFill>
        <p:spPr>
          <a:xfrm>
            <a:off x="2023920" y="4449600"/>
            <a:ext cx="1401840" cy="2043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"/>
          <p:cNvPicPr/>
          <p:nvPr/>
        </p:nvPicPr>
        <p:blipFill>
          <a:blip r:embed="rId9"/>
          <a:stretch/>
        </p:blipFill>
        <p:spPr>
          <a:xfrm>
            <a:off x="3602160" y="4449600"/>
            <a:ext cx="1420560" cy="2043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"/>
          <p:cNvPicPr/>
          <p:nvPr/>
        </p:nvPicPr>
        <p:blipFill>
          <a:blip r:embed="rId10"/>
          <a:stretch/>
        </p:blipFill>
        <p:spPr>
          <a:xfrm>
            <a:off x="5340240" y="4449600"/>
            <a:ext cx="1573200" cy="204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11"/>
          <a:stretch/>
        </p:blipFill>
        <p:spPr>
          <a:xfrm>
            <a:off x="7248600" y="4449600"/>
            <a:ext cx="1523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EB841DD-6E32-4EB8-95F4-ACF2E9BDB7A2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3"/>
          <p:cNvSpPr/>
          <p:nvPr/>
        </p:nvSpPr>
        <p:spPr>
          <a:xfrm>
            <a:off x="1874880" y="2276640"/>
            <a:ext cx="6996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https://avatars.mds.yandex.net/get-zen_doc/100325/pub_5d10ad6895065500b1716fbe_5d10ad7c278e6f00af96bd46/scale_1200"/>
          <p:cNvPicPr/>
          <p:nvPr/>
        </p:nvPicPr>
        <p:blipFill>
          <a:blip r:embed="rId5"/>
          <a:stretch/>
        </p:blipFill>
        <p:spPr>
          <a:xfrm>
            <a:off x="243000" y="2698920"/>
            <a:ext cx="1536480" cy="110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http://sch206.minsk.edu.by/sm.aspx?guid=20393"/>
          <p:cNvPicPr/>
          <p:nvPr/>
        </p:nvPicPr>
        <p:blipFill>
          <a:blip r:embed="rId6"/>
          <a:stretch/>
        </p:blipFill>
        <p:spPr>
          <a:xfrm>
            <a:off x="243000" y="4006800"/>
            <a:ext cx="1536480" cy="111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http://vechorka.ru/media/photos/55/55235.jpg"/>
          <p:cNvPicPr/>
          <p:nvPr/>
        </p:nvPicPr>
        <p:blipFill>
          <a:blip r:embed="rId7"/>
          <a:stretch/>
        </p:blipFill>
        <p:spPr>
          <a:xfrm>
            <a:off x="233280" y="5322960"/>
            <a:ext cx="1546200" cy="113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https://mkpale.ru/wp-content/uploads/2020/06/26-%D0%B8%D1%8E%D0%BD%D1%8F-2-2048x653.jpg"/>
          <p:cNvPicPr/>
          <p:nvPr/>
        </p:nvPicPr>
        <p:blipFill>
          <a:blip r:embed="rId8"/>
          <a:stretch/>
        </p:blipFill>
        <p:spPr>
          <a:xfrm>
            <a:off x="1973160" y="4356000"/>
            <a:ext cx="5149800" cy="2097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https://aleks-lib.vld.muzkult.ru/media/2019/05/15/1261782315/n-3.gif"/>
          <p:cNvPicPr/>
          <p:nvPr/>
        </p:nvPicPr>
        <p:blipFill>
          <a:blip r:embed="rId9"/>
          <a:stretch/>
        </p:blipFill>
        <p:spPr>
          <a:xfrm>
            <a:off x="7223040" y="4467240"/>
            <a:ext cx="178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79280" y="191628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936720" y="2421000"/>
            <a:ext cx="7929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79280" y="328464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324000" y="3774960"/>
            <a:ext cx="8613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уктурные подразделения администрации Нефтеюганского район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 комиссия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юридический комите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дел по делам несовершеннолетних, защите их прав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КУ «Управление по делам администрации Нефтеюганского района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дминистрации городского и сельских поселений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партамент образования и молодежной политики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392E520-3054-4CA0-970F-7518B646803E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20C272-7E7C-49E5-9525-4164A9671728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8000" y="133200"/>
          <a:ext cx="8928000" cy="6535800"/>
        </p:xfrm>
        <a:graphic>
          <a:graphicData uri="http://schemas.openxmlformats.org/drawingml/2006/table">
            <a:tbl>
              <a:tblPr/>
              <a:tblGrid>
                <a:gridCol w="1060560"/>
                <a:gridCol w="1512720"/>
                <a:gridCol w="1060560"/>
                <a:gridCol w="934920"/>
                <a:gridCol w="934920"/>
                <a:gridCol w="846360"/>
                <a:gridCol w="744480"/>
                <a:gridCol w="1833480"/>
              </a:tblGrid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мероприя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точники финанс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ъём финансирования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олнение плана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%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гр. 5 / гр. 4 *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меч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7080">
                <a:tc gridSpan="8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здание условий для деятельности народных друж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2,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2,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выплаты материального стимулирования членов народных дружин, страхование жизни и здоровь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вовое просвещение и правовое информирование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6,3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6,3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6,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6,3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, направленных на профилактику правонарушений несовершеннолет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C6AC63-E0D8-4A32-AF25-D0A61BD5DD06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8000" y="0"/>
          <a:ext cx="8785080" cy="6684840"/>
        </p:xfrm>
        <a:graphic>
          <a:graphicData uri="http://schemas.openxmlformats.org/drawingml/2006/table">
            <a:tbl>
              <a:tblPr/>
              <a:tblGrid>
                <a:gridCol w="1042920"/>
                <a:gridCol w="1490760"/>
                <a:gridCol w="1042920"/>
                <a:gridCol w="919080"/>
                <a:gridCol w="920880"/>
                <a:gridCol w="831960"/>
                <a:gridCol w="731520"/>
                <a:gridCol w="1805040"/>
              </a:tblGrid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отдельных государственных полномочий по созданию административных комиссий и определению перечня должностных лиц органов местного самоуправления, уполномоченных составлять протокол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 административных правонарушениях, предусмотренных пунктом 2 статьи 48 Закона Ханты-Мансийского автономного округа – Югры от 11 июня 2010 года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 102-оз «Об административных правонарушениях.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75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75,5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заработную плату (выплачены в полном объеме согласно отработанному времени), а также на услуги связи (оплачены по факту выставленных счет-фактур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58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58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8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8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государственных полномочий по составлению (изменению и дополнению) списков кандидатов в присяжные заседатели федеральных судов общей юрисди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а рассылка уведомлений кандидатам в присяжные заседатели федеральных судов общей юрисдикци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8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 по профилактике незаконного потребления наркотических средств и психотропных веществ, наркома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2"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 по программе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15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15,4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10,0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10,0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3,0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3,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1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73" name="Заголовок 1" descr=""/>
          <p:cNvPicPr/>
          <p:nvPr/>
        </p:nvPicPr>
        <p:blipFill>
          <a:blip r:embed="rId4"/>
          <a:stretch/>
        </p:blipFill>
        <p:spPr>
          <a:xfrm>
            <a:off x="0" y="1127160"/>
            <a:ext cx="9144000" cy="573120"/>
          </a:xfrm>
          <a:prstGeom prst="rect">
            <a:avLst/>
          </a:prstGeom>
          <a:ln w="0">
            <a:noFill/>
          </a:ln>
        </p:spPr>
      </p:pic>
      <p:sp>
        <p:nvSpPr>
          <p:cNvPr id="274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FF55CD-36E1-455C-A778-F3E2F08A0366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8000" y="1228680"/>
          <a:ext cx="8928000" cy="4372200"/>
        </p:xfrm>
        <a:graphic>
          <a:graphicData uri="http://schemas.openxmlformats.org/drawingml/2006/table">
            <a:tbl>
              <a:tblPr/>
              <a:tblGrid>
                <a:gridCol w="1098360"/>
                <a:gridCol w="2481480"/>
                <a:gridCol w="828720"/>
                <a:gridCol w="1331640"/>
                <a:gridCol w="1332000"/>
                <a:gridCol w="1163880"/>
                <a:gridCol w="691920"/>
              </a:tblGrid>
              <a:tr h="3142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целевых показател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иница измер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зультат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ценка в балл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ый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азате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е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380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3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6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уличных преступлений в числе зарегистрированных общеуголовных преступлений*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4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524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уровня преступности (число зарегистрированных преступлений на 100 тыс. человек населения) 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06200" y="5532480"/>
          <a:ext cx="8928360" cy="992160"/>
        </p:xfrm>
        <a:graphic>
          <a:graphicData uri="http://schemas.openxmlformats.org/drawingml/2006/table">
            <a:tbl>
              <a:tblPr/>
              <a:tblGrid>
                <a:gridCol w="1100160"/>
                <a:gridCol w="2479680"/>
                <a:gridCol w="828720"/>
                <a:gridCol w="1332000"/>
                <a:gridCol w="1332000"/>
                <a:gridCol w="1165320"/>
                <a:gridCol w="690480"/>
              </a:tblGrid>
              <a:tr h="9921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ень преступности на улицах и в общественных местах (число зарегистрированных преступлений на 100 тыс.человек населения), ед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7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03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88920" y="1197000"/>
          <a:ext cx="8964720" cy="5472000"/>
        </p:xfrm>
        <a:graphic>
          <a:graphicData uri="http://schemas.openxmlformats.org/drawingml/2006/table">
            <a:tbl>
              <a:tblPr/>
              <a:tblGrid>
                <a:gridCol w="311040"/>
                <a:gridCol w="2824200"/>
                <a:gridCol w="944640"/>
                <a:gridCol w="1252440"/>
                <a:gridCol w="1517760"/>
                <a:gridCol w="1326960"/>
                <a:gridCol w="787680"/>
              </a:tblGrid>
              <a:tr h="65232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распространенности наркомании (на 100 тыс. населения)*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е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33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79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доли обучающихся, прошедших социально-психологическое тестирование с целью раннего выявления незаконного потребления наркотических средств и психотропных веществ, в общем количестве обучающихся, %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12920">
                <a:tc gridSpan="6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 сумма баллов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8736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 Снижение показателя имеет положительную динамику, т.к. это указывает на снижение общеуголовной уличной преступност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Снижение показателя имеет положительную динамику, т.к. это указывает на снижение уровня преступности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* Снижение показателя имеет положительную динамику, т.к. это указывает на снижение распространенности наркомании            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8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0:12:35Z</dcterms:created>
  <dc:creator>Белоус Вадим Петрович</dc:creator>
  <dc:description/>
  <dc:language>en-US</dc:language>
  <cp:lastModifiedBy>Белоус Вадим Петрович</cp:lastModifiedBy>
  <dcterms:modified xsi:type="dcterms:W3CDTF">2023-01-24T11:57:55Z</dcterms:modified>
  <cp:revision>48</cp:revision>
  <dc:subject/>
  <dc:title>Администрация Нефтеюганского района Ханты-Мансийский автономный округ - Югра</dc:title>
</cp:coreProperties>
</file>