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732-530F-45CB-A8F4-77E3BDC7D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442-1959-4390-B5E0-BD0BC8BB2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2DA0DD3-BDB2-4EF0-BA1C-A738E5A89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3D17-A6A7-4816-BD71-D484C41E3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B413899-2438-496A-9BD7-6028214E8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8B1-55AF-4E79-B13F-8A4B5C009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010-C8BB-4D01-A87C-15A6549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981-CE8C-404D-B1A7-4A52C7E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4EE-D20E-4E93-B775-A5A515DE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F23-3169-4D31-B091-21EF5673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E57-D5B9-4243-9614-012FA69A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23B6-1E13-45C3-888C-10E18E51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411F-632B-4A26-86C0-2A5BDC0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15F-0E10-4437-893F-5649DEE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71C-BE9D-47E9-9ABE-DE5EFEC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01A-DCF3-4E7C-B444-D2BAFF8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ECC-B86A-4D2C-95B8-E7A0475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FFB-A93F-4645-BC85-66BB72D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D1DD-0A86-4D14-BDAE-754FAC0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00CB-C4E7-429E-8694-F9D7189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B57-F3E4-4D3C-A2BF-0F9B161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CCF-EFC3-43F1-9B5D-CC8ECBD6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4BD-6C0D-4B07-AB67-B325B8A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9AB-2BE7-42FB-A3CA-E935675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CF7-A6CA-4814-951A-94E4AE5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4BC-F4BA-4254-8C57-0C4EA48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142-49E3-4711-BBBD-E0290C4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F4D-3F08-4C81-B0F0-A120802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0A3-DD5E-4AAA-A422-D7A8AE2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0ED-C9B6-44FA-94B4-4C9806D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f492">
                <a:alpha val="65098"/>
              </a:srgbClr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EA77-42D5-49DE-AB6A-309E3C5D4F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f492">
                <a:alpha val="65098"/>
              </a:srgbClr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0E1D-831D-477E-B23F-459A8E074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5"/>
          <p:cNvPicPr/>
          <p:nvPr/>
        </p:nvPicPr>
        <p:blipFill>
          <a:blip r:embed="rId1"/>
          <a:stretch/>
        </p:blipFill>
        <p:spPr>
          <a:xfrm>
            <a:off x="-6480" y="-23760"/>
            <a:ext cx="9150480" cy="10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60px-Flag_of_Polovinka_(Khanty-Mansia)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74680" y="307800"/>
            <a:ext cx="7991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Группа 12" descr=""/>
          <p:cNvPicPr/>
          <p:nvPr/>
        </p:nvPicPr>
        <p:blipFill>
          <a:blip r:embed="rId4"/>
          <a:stretch/>
        </p:blipFill>
        <p:spPr>
          <a:xfrm>
            <a:off x="3736800" y="5535720"/>
            <a:ext cx="224316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5" descr=""/>
          <p:cNvPicPr/>
          <p:nvPr/>
        </p:nvPicPr>
        <p:blipFill>
          <a:blip r:embed="rId5"/>
          <a:stretch/>
        </p:blipFill>
        <p:spPr>
          <a:xfrm>
            <a:off x="146160" y="1987560"/>
            <a:ext cx="8851680" cy="1938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92360" y="4436640"/>
            <a:ext cx="360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17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администрации Нефтеюганского района </a:t>
            </a:r>
            <a:br>
              <a:rPr sz="1700"/>
            </a:br>
            <a:r>
              <a:rPr b="1" i="1" lang="ru-RU" sz="17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31.10.2016 № 1804-па-нп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311640" y="115920"/>
            <a:ext cx="58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8"/>
          <p:cNvSpPr/>
          <p:nvPr/>
        </p:nvSpPr>
        <p:spPr>
          <a:xfrm>
            <a:off x="80820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9"/>
          <p:cNvSpPr/>
          <p:nvPr/>
        </p:nvSpPr>
        <p:spPr>
          <a:xfrm>
            <a:off x="324000" y="1000080"/>
            <a:ext cx="861984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Ответственный исполнитель муниципальной программы -  Департамент строительства и жилищно-коммунального комплекса Нефтеюганского райо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Департамент образования и молодежной политики 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фтеюга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КУ «Управление капитального строительства и жилищно-коммунального комплекса Нефтеюганского райо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Городское и сельские по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0"/>
          <p:cNvSpPr/>
          <p:nvPr/>
        </p:nvSpPr>
        <p:spPr>
          <a:xfrm>
            <a:off x="0" y="227664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31"/>
          <p:cNvSpPr txBox="1"/>
          <p:nvPr/>
        </p:nvSpPr>
        <p:spPr>
          <a:xfrm>
            <a:off x="3714840" y="214200"/>
            <a:ext cx="5229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густовское педагогическое совещание 2013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101" name="AutoShape 132"/>
          <p:cNvCxnSpPr>
            <a:stCxn id="99" idx="1"/>
            <a:endCxn id="99" idx="1"/>
          </p:cNvCxnSpPr>
          <p:nvPr/>
        </p:nvCxnSpPr>
        <p:spPr>
          <a:xfrm>
            <a:off x="-360" y="2504880"/>
            <a:ext cx="1080" cy="108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pic>
        <p:nvPicPr>
          <p:cNvPr id="102" name="Picture 10" descr="5"/>
          <p:cNvPicPr/>
          <p:nvPr/>
        </p:nvPicPr>
        <p:blipFill>
          <a:blip r:embed="rId1"/>
          <a:stretch/>
        </p:blipFill>
        <p:spPr>
          <a:xfrm>
            <a:off x="0" y="30240"/>
            <a:ext cx="9150480" cy="100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5" descr="160px-Flag_of_Polovinka_(Khanty-Mansia)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29"/>
          <p:cNvSpPr/>
          <p:nvPr/>
        </p:nvSpPr>
        <p:spPr>
          <a:xfrm>
            <a:off x="476280" y="1152360"/>
            <a:ext cx="862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5"/>
          <p:cNvPicPr/>
          <p:nvPr/>
        </p:nvPicPr>
        <p:blipFill>
          <a:blip r:embed="rId1"/>
          <a:stretch/>
        </p:blipFill>
        <p:spPr>
          <a:xfrm>
            <a:off x="-6480" y="-23760"/>
            <a:ext cx="9150480" cy="10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60px-Flag_of_Polovinka_(Khanty-Mansia)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274680" y="307800"/>
            <a:ext cx="7991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Группа 12" descr=""/>
          <p:cNvPicPr/>
          <p:nvPr/>
        </p:nvPicPr>
        <p:blipFill>
          <a:blip r:embed="rId4"/>
          <a:stretch/>
        </p:blipFill>
        <p:spPr>
          <a:xfrm>
            <a:off x="3736800" y="5535720"/>
            <a:ext cx="2243160" cy="731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92360" y="4436640"/>
            <a:ext cx="360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431640" y="1125360"/>
            <a:ext cx="79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Цели и задачи муниципа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5"/>
          <p:cNvSpPr/>
          <p:nvPr/>
        </p:nvSpPr>
        <p:spPr>
          <a:xfrm>
            <a:off x="600120" y="1704960"/>
            <a:ext cx="8207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Цели: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1.Повышение надежности и качества предоставления жилищно-коммунальных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.Повышение эффективности использования энергетически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. Повышение качества условий проживания населения за счет формирования благоприятной среды проживания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дзаголовок 6"/>
          <p:cNvSpPr/>
          <p:nvPr/>
        </p:nvSpPr>
        <p:spPr>
          <a:xfrm>
            <a:off x="574560" y="4365720"/>
            <a:ext cx="8029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  Повышение эффективности, качества и надежности поставки коммунальны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вышение эффективности содержания общего имущества многоквартирных д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. Развитие энергосбережения и повышение энергоэффе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. Благоустройство территорий населенных пунктов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311640" y="115920"/>
            <a:ext cx="58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80820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9"/>
          <p:cNvSpPr/>
          <p:nvPr/>
        </p:nvSpPr>
        <p:spPr>
          <a:xfrm>
            <a:off x="500040" y="10000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Финансирование муниципа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31"/>
          <p:cNvSpPr txBox="1"/>
          <p:nvPr/>
        </p:nvSpPr>
        <p:spPr>
          <a:xfrm>
            <a:off x="3714840" y="214200"/>
            <a:ext cx="5229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густовское педагогическое совещание 2013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119" name="AutoShape 132"/>
          <p:cNvCxnSpPr/>
          <p:nvPr/>
        </p:nvCxnSpPr>
        <p:spPr>
          <a:xfrm>
            <a:off x="499680" y="4214520"/>
            <a:ext cx="1080" cy="108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pic>
        <p:nvPicPr>
          <p:cNvPr id="120" name="Picture 10" descr="5"/>
          <p:cNvPicPr/>
          <p:nvPr/>
        </p:nvPicPr>
        <p:blipFill>
          <a:blip r:embed="rId1"/>
          <a:stretch/>
        </p:blipFill>
        <p:spPr>
          <a:xfrm>
            <a:off x="0" y="30240"/>
            <a:ext cx="915048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5" descr="160px-Flag_of_Polovinka_(Khanty-Mansia)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99680" y="1527120"/>
            <a:ext cx="849636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ализацию муниципальной программы в 2022 году запланировано финансирование в размере 1 133 213,19 тыс.рублей. Исполнение составило – 1 022 237,63 тыс.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08200" y="3213000"/>
          <a:ext cx="7684920" cy="1871640"/>
        </p:xfrm>
        <a:graphic>
          <a:graphicData uri="http://schemas.openxmlformats.org/drawingml/2006/table">
            <a:tbl>
              <a:tblPr/>
              <a:tblGrid>
                <a:gridCol w="1643040"/>
                <a:gridCol w="3105000"/>
                <a:gridCol w="2936880"/>
              </a:tblGrid>
              <a:tr h="46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 893,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 945,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 413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 729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3 213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22 237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9"/>
          <p:cNvSpPr/>
          <p:nvPr/>
        </p:nvSpPr>
        <p:spPr>
          <a:xfrm>
            <a:off x="517680" y="7444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Результаты реализации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5"/>
          <p:cNvPicPr/>
          <p:nvPr/>
        </p:nvPicPr>
        <p:blipFill>
          <a:blip r:embed="rId1"/>
          <a:stretch/>
        </p:blipFill>
        <p:spPr>
          <a:xfrm>
            <a:off x="-6480" y="-23760"/>
            <a:ext cx="9150480" cy="10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Заголовок 5"/>
          <p:cNvSpPr/>
          <p:nvPr/>
        </p:nvSpPr>
        <p:spPr>
          <a:xfrm>
            <a:off x="250920" y="1197000"/>
            <a:ext cx="8713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дпрограмма I «создание условий для обеспечения качественными услугам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2440" y="1916280"/>
            <a:ext cx="84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сновное мероприятие: Реконструкция, расширение, модернизация, строительство и капитальный ремонт объектов коммунального 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5"/>
          <p:cNvSpPr/>
          <p:nvPr/>
        </p:nvSpPr>
        <p:spPr>
          <a:xfrm>
            <a:off x="339840" y="2486160"/>
            <a:ext cx="8610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Ведутся работы по реализации следующих объ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конструкция объекта «Здание станции 2-го Подъема, ВОС-8000 м3» в гп.Пойковский Нефтеюг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роительство блочно-модульной водоочистной установки производительностью 250 м3/сут. в сп.Каркатеевы Нефтеюг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4788000" y="4076640"/>
            <a:ext cx="4206600" cy="273708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5"/>
          <p:cNvSpPr/>
          <p:nvPr/>
        </p:nvSpPr>
        <p:spPr>
          <a:xfrm>
            <a:off x="7043760" y="3176640"/>
            <a:ext cx="17319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4"/>
          <a:stretch/>
        </p:blipFill>
        <p:spPr>
          <a:xfrm>
            <a:off x="266760" y="4221000"/>
            <a:ext cx="43639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5"/>
          <p:cNvPicPr/>
          <p:nvPr/>
        </p:nvPicPr>
        <p:blipFill>
          <a:blip r:embed="rId1"/>
          <a:stretch/>
        </p:blipFill>
        <p:spPr>
          <a:xfrm>
            <a:off x="-23760" y="-23760"/>
            <a:ext cx="9144000" cy="100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160px-Flag_of_Polovinka_(Khanty-Mansia)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8435880" y="115920"/>
            <a:ext cx="635040" cy="80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Группа 12" descr=""/>
          <p:cNvPicPr/>
          <p:nvPr/>
        </p:nvPicPr>
        <p:blipFill>
          <a:blip r:embed="rId4"/>
          <a:stretch/>
        </p:blipFill>
        <p:spPr>
          <a:xfrm>
            <a:off x="3736800" y="5535720"/>
            <a:ext cx="2243160" cy="731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7"/>
          <p:cNvSpPr/>
          <p:nvPr/>
        </p:nvSpPr>
        <p:spPr>
          <a:xfrm>
            <a:off x="281160" y="91764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сновное мероприятие: капитальный ремонт, ремонт систем теплоснабжения, водоснабжения, водоотведения, электроснабжения для подготовки к осенне-зимнему пери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6"/>
          <p:cNvSpPr/>
          <p:nvPr/>
        </p:nvSpPr>
        <p:spPr>
          <a:xfrm>
            <a:off x="395280" y="1773360"/>
            <a:ext cx="4608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щий размер финансирования составляет                       35 675,95 тыс.рублей, в том числе окружной                   бюджет 2 472,90 тыс.рублей, местный бюджет – 33 203,05 тыс.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"/>
          <p:cNvPicPr/>
          <p:nvPr/>
        </p:nvPicPr>
        <p:blipFill>
          <a:blip r:embed="rId5"/>
          <a:stretch/>
        </p:blipFill>
        <p:spPr>
          <a:xfrm>
            <a:off x="1192320" y="4162320"/>
            <a:ext cx="244764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6"/>
          <a:stretch/>
        </p:blipFill>
        <p:spPr>
          <a:xfrm>
            <a:off x="5364000" y="1916280"/>
            <a:ext cx="3316320" cy="194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7"/>
          <a:stretch/>
        </p:blipFill>
        <p:spPr>
          <a:xfrm>
            <a:off x="5435640" y="4289400"/>
            <a:ext cx="2808360" cy="1952640"/>
          </a:xfrm>
          <a:prstGeom prst="rect">
            <a:avLst/>
          </a:prstGeom>
          <a:ln w="0">
            <a:noFill/>
          </a:ln>
        </p:spPr>
      </p:pic>
      <p:pic>
        <p:nvPicPr>
          <p:cNvPr id="143" name="Диаграмма 15" descr=""/>
          <p:cNvPicPr/>
          <p:nvPr/>
        </p:nvPicPr>
        <p:blipFill>
          <a:blip r:embed="rId8"/>
          <a:stretch/>
        </p:blipFill>
        <p:spPr>
          <a:xfrm>
            <a:off x="706320" y="38592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программа I</a:t>
            </a:r>
            <a:r>
              <a:rPr b="0" i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</a:t>
            </a:r>
            <a:r>
              <a:rPr b="0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«Формирование современной городской сре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54900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егиональный проект «Формирование комфортной городской сре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 территории Нефтеюганского района реализуется национальный проект «Жилье и городская среда» в который входит региональный проект «Формирование комфортной городской среды» в рамках которого достигнуты запланированные 2 показател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казатель «Доля граждан, принявших участие в решении вопросов развития городской среды от общего количества граждан в возрасте от 14 лет, проживающих в муниципальных образованиях, на территории которых реализуется проекты по созданию комфортной городской среды»</a:t>
            </a: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лановое значение -20 %, Факт – 25 % . Для достижения показателя в период с 04.02.2022 по 04.03.2022 года были проведены общественные обсуждения на портале myopenugra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разработке и выборе данного проекта приняли участие более 515 жителей поселения. По итогам проведения общественного обсуждения к реализации в 2023 году  принята общественная территория парк «Зеленый остров» в сельском поселении Куть-Ях 2 эта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казатель «Количество благоустроенных общественных территор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лановое значение – 1 ед, Факт – 1 е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рамках Регионального  проекта «Формирование комфортной городской среды» благоустроенно 4 дворовых и 1 общественная террито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674640" y="115920"/>
            <a:ext cx="345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2052720" y="115920"/>
            <a:ext cx="554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к «Зеленый остров» в сельском поселении Куть-Ях 1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7" descr="\\10.10.1.6\общие папки\Обмен\ДСиЖКХ\ОРиМП\ОРиМП\ПРИОРИТЕТНЫЕ ПРОЕКТЫ (ПОРТФЕЛИ)\Портфель КОМФОРТНАЯ ГОРОДСКАЯ СРЕДА\ДИЗАЙН ПРОЕКТЫ  ПСД   МК по годам\2022\ФОТО\27.10\IMG-20221027-WA0004.jpg"/>
          <p:cNvPicPr/>
          <p:nvPr/>
        </p:nvPicPr>
        <p:blipFill>
          <a:blip r:embed="rId1"/>
          <a:stretch/>
        </p:blipFill>
        <p:spPr>
          <a:xfrm>
            <a:off x="108000" y="620640"/>
            <a:ext cx="4464000" cy="262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C:\Users\golubovaya\AppData\Local\Microsoft\Windows\INetCache\Content.Word\IMG_5902.jpg"/>
          <p:cNvPicPr/>
          <p:nvPr/>
        </p:nvPicPr>
        <p:blipFill>
          <a:blip r:embed="rId2"/>
          <a:stretch/>
        </p:blipFill>
        <p:spPr>
          <a:xfrm>
            <a:off x="395280" y="3789360"/>
            <a:ext cx="3529080" cy="2784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C:\Users\Горкунова ТМ\Desktop\ad4017dc-6b1d-46a5-a959-51828ddf33b1.JPG"/>
          <p:cNvPicPr/>
          <p:nvPr/>
        </p:nvPicPr>
        <p:blipFill>
          <a:blip r:embed="rId3"/>
          <a:stretch/>
        </p:blipFill>
        <p:spPr>
          <a:xfrm>
            <a:off x="4853160" y="569880"/>
            <a:ext cx="4140000" cy="2676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C:\Users\Горкунова ТМ\Desktop\Новая папка (2)\DSC05748.JPG"/>
          <p:cNvPicPr/>
          <p:nvPr/>
        </p:nvPicPr>
        <p:blipFill>
          <a:blip r:embed="rId4"/>
          <a:stretch/>
        </p:blipFill>
        <p:spPr>
          <a:xfrm>
            <a:off x="5580000" y="3645000"/>
            <a:ext cx="3618000" cy="3093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1" descr="C:\Users\Горкунова ТМ\Desktop\Новая папка (2)\DSC05738.JPG"/>
          <p:cNvPicPr/>
          <p:nvPr/>
        </p:nvPicPr>
        <p:blipFill>
          <a:blip r:embed="rId5"/>
          <a:stretch/>
        </p:blipFill>
        <p:spPr>
          <a:xfrm>
            <a:off x="3348000" y="3068640"/>
            <a:ext cx="3133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55:58Z</dcterms:created>
  <dc:creator>novikovaeg</dc:creator>
  <dc:description/>
  <dc:language>en-US</dc:language>
  <cp:lastModifiedBy>Голубова Яна Александровна</cp:lastModifiedBy>
  <dcterms:modified xsi:type="dcterms:W3CDTF">2023-02-17T11:16:33Z</dcterms:modified>
  <cp:revision>580</cp:revision>
  <dc:subject/>
  <dc:title>Слайд 1</dc:title>
</cp:coreProperties>
</file>